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9D93-44C7-4F04-B4C9-60A719DA8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FD6D-D361-4AB7-844F-D8D1E8165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369E-9153-49D1-BCB0-E2519AFE4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DCD5-01C5-41C6-8E52-3B3B7F5E5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D861-50DA-4238-A2DB-57EA5062A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79AB-E743-447F-8433-03D2DD03F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DE6B-AF0F-458A-BC61-0D89A85F0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D7C8-9C0C-4049-85D1-050C7635D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8529-4C8F-44BF-9D60-C1A2D44CF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770E-AEE8-4953-8E71-42166672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72D7-C740-490C-AEAF-5B88BFAF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2813-B0A4-445E-90D8-BD67C556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4EEA8-2AAD-4EA6-A897-1792228225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17.xml"/><Relationship Id="rId7" Type="http://schemas.openxmlformats.org/officeDocument/2006/relationships/slide" Target=""/><Relationship Id="rId8" Type="http://schemas.openxmlformats.org/officeDocument/2006/relationships/slide" Target="slide19.xml"/><Relationship Id="rId9" Type="http://schemas.openxmlformats.org/officeDocument/2006/relationships/slide" Target=""/><Relationship Id="rId10" Type="http://schemas.openxmlformats.org/officeDocument/2006/relationships/slide" Target="slide21.xml"/><Relationship Id="rId11" Type="http://schemas.openxmlformats.org/officeDocument/2006/relationships/slide" Target=""/><Relationship Id="rId12" Type="http://schemas.openxmlformats.org/officeDocument/2006/relationships/slide" Target="slide23.xml"/><Relationship Id="rId13" Type="http://schemas.openxmlformats.org/officeDocument/2006/relationships/slide" Target=""/><Relationship Id="rId14" Type="http://schemas.openxmlformats.org/officeDocument/2006/relationships/slide" Target="slide25.xml"/><Relationship Id="rId15" Type="http://schemas.openxmlformats.org/officeDocument/2006/relationships/slide" Target=""/><Relationship Id="rId16" Type="http://schemas.openxmlformats.org/officeDocument/2006/relationships/slide" Target="slide27.xml"/><Relationship Id="rId17" Type="http://schemas.openxmlformats.org/officeDocument/2006/relationships/slide" Target=""/><Relationship Id="rId18" Type="http://schemas.openxmlformats.org/officeDocument/2006/relationships/slide" Target="slide29.xml"/><Relationship Id="rId19" Type="http://schemas.openxmlformats.org/officeDocument/2006/relationships/slide" Target=""/><Relationship Id="rId20" Type="http://schemas.openxmlformats.org/officeDocument/2006/relationships/slide" Target="slide31.xml"/><Relationship Id="rId21" Type="http://schemas.openxmlformats.org/officeDocument/2006/relationships/slide" Target=""/><Relationship Id="rId22" Type="http://schemas.openxmlformats.org/officeDocument/2006/relationships/slide" Target="slide33.xml"/><Relationship Id="rId23" Type="http://schemas.openxmlformats.org/officeDocument/2006/relationships/slide" Target=""/><Relationship Id="rId24" Type="http://schemas.openxmlformats.org/officeDocument/2006/relationships/slide" Target=""/><Relationship Id="rId25" Type="http://schemas.openxmlformats.org/officeDocument/2006/relationships/slide" Target=""/><Relationship Id="rId26" Type="http://schemas.openxmlformats.org/officeDocument/2006/relationships/slide" Target=""/><Relationship Id="rId27" Type="http://schemas.openxmlformats.org/officeDocument/2006/relationships/slide" Target=""/><Relationship Id="rId28" Type="http://schemas.openxmlformats.org/officeDocument/2006/relationships/slide" Target=""/><Relationship Id="rId29" Type="http://schemas.openxmlformats.org/officeDocument/2006/relationships/slide" Target=""/><Relationship Id="rId30" Type="http://schemas.openxmlformats.org/officeDocument/2006/relationships/slide" Target=""/><Relationship Id="rId31" Type="http://schemas.openxmlformats.org/officeDocument/2006/relationships/slide" Target=""/><Relationship Id="rId32" Type="http://schemas.openxmlformats.org/officeDocument/2006/relationships/slide" Target=""/><Relationship Id="rId33" Type="http://schemas.openxmlformats.org/officeDocument/2006/relationships/slide" Target=""/><Relationship Id="rId34" Type="http://schemas.openxmlformats.org/officeDocument/2006/relationships/slide" Target=""/><Relationship Id="rId35" Type="http://schemas.openxmlformats.org/officeDocument/2006/relationships/slide" Target=""/><Relationship Id="rId36" Type="http://schemas.openxmlformats.org/officeDocument/2006/relationships/slide" Target=""/><Relationship Id="rId37" Type="http://schemas.openxmlformats.org/officeDocument/2006/relationships/slide" Target=""/><Relationship Id="rId38" Type="http://schemas.openxmlformats.org/officeDocument/2006/relationships/slide" Target=""/><Relationship Id="rId39" Type="http://schemas.openxmlformats.org/officeDocument/2006/relationships/slide" Target=""/><Relationship Id="rId40" Type="http://schemas.openxmlformats.org/officeDocument/2006/relationships/slide" Target="slide69.xml"/><Relationship Id="rId4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9F6C-0B7D-4FE5-911B-66F18CB0363A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69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469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467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614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5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>
            <a:hlinkClick r:id="rId2" action="ppaction://hlinksldjump"/>
          </p:cNvPr>
          <p:cNvSpPr/>
          <p:nvPr/>
        </p:nvSpPr>
        <p:spPr>
          <a:xfrm>
            <a:off x="838080" y="5410080"/>
            <a:ext cx="1143000" cy="838440"/>
          </a:xfrm>
          <a:custGeom>
            <a:avLst/>
            <a:gdLst>
              <a:gd name="textAreaLeft" fmla="*/ 54360 w 1143000"/>
              <a:gd name="textAreaRight" fmla="*/ 1088640 w 11430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9443" h="21600">
                <a:moveTo>
                  <a:pt x="0" y="0"/>
                </a:moveTo>
                <a:lnTo>
                  <a:pt x="29443" y="0"/>
                </a:lnTo>
                <a:lnTo>
                  <a:pt x="29443" y="21600"/>
                </a:lnTo>
                <a:lnTo>
                  <a:pt x="0" y="21600"/>
                </a:lnTo>
                <a:close/>
              </a:path>
              <a:path fill="lightenLess" w="29443" h="21600">
                <a:moveTo>
                  <a:pt x="0" y="0"/>
                </a:moveTo>
                <a:lnTo>
                  <a:pt x="29443" y="0"/>
                </a:lnTo>
                <a:lnTo>
                  <a:pt x="28043" y="1400"/>
                </a:lnTo>
                <a:lnTo>
                  <a:pt x="1400" y="1400"/>
                </a:lnTo>
                <a:close/>
              </a:path>
              <a:path fill="darken" w="29443" h="21600">
                <a:moveTo>
                  <a:pt x="29443" y="0"/>
                </a:moveTo>
                <a:lnTo>
                  <a:pt x="29443" y="21600"/>
                </a:lnTo>
                <a:lnTo>
                  <a:pt x="28043" y="20200"/>
                </a:lnTo>
                <a:lnTo>
                  <a:pt x="28043" y="1400"/>
                </a:lnTo>
                <a:close/>
              </a:path>
              <a:path fill="darkenLess" w="29443" h="21600">
                <a:moveTo>
                  <a:pt x="29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3" y="20200"/>
                </a:lnTo>
                <a:close/>
              </a:path>
              <a:path fill="lighten" w="29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3" h="21600">
                <a:moveTo>
                  <a:pt x="7715" y="7493"/>
                </a:moveTo>
                <a:lnTo>
                  <a:pt x="11222" y="7493"/>
                </a:lnTo>
                <a:lnTo>
                  <a:pt x="11222" y="12828"/>
                </a:lnTo>
                <a:cubicBezTo>
                  <a:pt x="11222" y="13751"/>
                  <a:pt x="12023" y="14482"/>
                  <a:pt x="13059" y="14482"/>
                </a:cubicBezTo>
                <a:lnTo>
                  <a:pt x="14721" y="14482"/>
                </a:lnTo>
                <a:cubicBezTo>
                  <a:pt x="15757" y="14482"/>
                  <a:pt x="16558" y="13751"/>
                  <a:pt x="16558" y="12828"/>
                </a:cubicBezTo>
                <a:lnTo>
                  <a:pt x="16558" y="7493"/>
                </a:lnTo>
                <a:lnTo>
                  <a:pt x="14721" y="7493"/>
                </a:lnTo>
                <a:lnTo>
                  <a:pt x="18229" y="3985"/>
                </a:lnTo>
                <a:lnTo>
                  <a:pt x="21902" y="7493"/>
                </a:lnTo>
                <a:lnTo>
                  <a:pt x="20065" y="7493"/>
                </a:lnTo>
                <a:lnTo>
                  <a:pt x="20065" y="12828"/>
                </a:lnTo>
                <a:cubicBezTo>
                  <a:pt x="20065" y="15596"/>
                  <a:pt x="17489" y="18155"/>
                  <a:pt x="14721" y="18155"/>
                </a:cubicBezTo>
                <a:lnTo>
                  <a:pt x="13059" y="18155"/>
                </a:lnTo>
                <a:cubicBezTo>
                  <a:pt x="10291" y="18155"/>
                  <a:pt x="7715" y="15596"/>
                  <a:pt x="7715" y="12828"/>
                </a:cubicBez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259092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What is a wind vane or weather vane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940D-CCDC-4D2F-8F4D-9DE21A7515E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447920" y="1523880"/>
            <a:ext cx="6400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This is used to measure precipitation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582A-8915-4EAA-9006-DF2050FD258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>
            <a:hlinkClick r:id="rId2" action="ppaction://hlinksldjump"/>
          </p:cNvPr>
          <p:cNvSpPr/>
          <p:nvPr/>
        </p:nvSpPr>
        <p:spPr>
          <a:xfrm>
            <a:off x="838080" y="5410080"/>
            <a:ext cx="1143000" cy="838440"/>
          </a:xfrm>
          <a:custGeom>
            <a:avLst/>
            <a:gdLst>
              <a:gd name="textAreaLeft" fmla="*/ 54360 w 1143000"/>
              <a:gd name="textAreaRight" fmla="*/ 1088640 w 11430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9443" h="21600">
                <a:moveTo>
                  <a:pt x="0" y="0"/>
                </a:moveTo>
                <a:lnTo>
                  <a:pt x="29443" y="0"/>
                </a:lnTo>
                <a:lnTo>
                  <a:pt x="29443" y="21600"/>
                </a:lnTo>
                <a:lnTo>
                  <a:pt x="0" y="21600"/>
                </a:lnTo>
                <a:close/>
              </a:path>
              <a:path fill="lightenLess" w="29443" h="21600">
                <a:moveTo>
                  <a:pt x="0" y="0"/>
                </a:moveTo>
                <a:lnTo>
                  <a:pt x="29443" y="0"/>
                </a:lnTo>
                <a:lnTo>
                  <a:pt x="28043" y="1400"/>
                </a:lnTo>
                <a:lnTo>
                  <a:pt x="1400" y="1400"/>
                </a:lnTo>
                <a:close/>
              </a:path>
              <a:path fill="darken" w="29443" h="21600">
                <a:moveTo>
                  <a:pt x="29443" y="0"/>
                </a:moveTo>
                <a:lnTo>
                  <a:pt x="29443" y="21600"/>
                </a:lnTo>
                <a:lnTo>
                  <a:pt x="28043" y="20200"/>
                </a:lnTo>
                <a:lnTo>
                  <a:pt x="28043" y="1400"/>
                </a:lnTo>
                <a:close/>
              </a:path>
              <a:path fill="darkenLess" w="29443" h="21600">
                <a:moveTo>
                  <a:pt x="29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3" y="20200"/>
                </a:lnTo>
                <a:close/>
              </a:path>
              <a:path fill="lighten" w="29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3" h="21600">
                <a:moveTo>
                  <a:pt x="7715" y="7493"/>
                </a:moveTo>
                <a:lnTo>
                  <a:pt x="11222" y="7493"/>
                </a:lnTo>
                <a:lnTo>
                  <a:pt x="11222" y="12828"/>
                </a:lnTo>
                <a:cubicBezTo>
                  <a:pt x="11222" y="13751"/>
                  <a:pt x="12023" y="14482"/>
                  <a:pt x="13059" y="14482"/>
                </a:cubicBezTo>
                <a:lnTo>
                  <a:pt x="14721" y="14482"/>
                </a:lnTo>
                <a:cubicBezTo>
                  <a:pt x="15757" y="14482"/>
                  <a:pt x="16558" y="13751"/>
                  <a:pt x="16558" y="12828"/>
                </a:cubicBezTo>
                <a:lnTo>
                  <a:pt x="16558" y="7493"/>
                </a:lnTo>
                <a:lnTo>
                  <a:pt x="14721" y="7493"/>
                </a:lnTo>
                <a:lnTo>
                  <a:pt x="18229" y="3985"/>
                </a:lnTo>
                <a:lnTo>
                  <a:pt x="21902" y="7493"/>
                </a:lnTo>
                <a:lnTo>
                  <a:pt x="20065" y="7493"/>
                </a:lnTo>
                <a:lnTo>
                  <a:pt x="20065" y="12828"/>
                </a:lnTo>
                <a:cubicBezTo>
                  <a:pt x="20065" y="15596"/>
                  <a:pt x="17489" y="18155"/>
                  <a:pt x="14721" y="18155"/>
                </a:cubicBezTo>
                <a:lnTo>
                  <a:pt x="13059" y="18155"/>
                </a:lnTo>
                <a:cubicBezTo>
                  <a:pt x="10291" y="18155"/>
                  <a:pt x="7715" y="15596"/>
                  <a:pt x="7715" y="12828"/>
                </a:cubicBez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289476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imes New Roman"/>
              </a:rPr>
              <a:t>What is a rain gauge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1A78-7815-4AA5-A430-BC9137DF445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219320" y="1828800"/>
            <a:ext cx="7238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It is used to measure the temperature of the air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F7EA-F72B-474D-AB27-8EBE332238E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>
            <a:hlinkClick r:id="rId2" action="ppaction://hlinksldjump"/>
          </p:cNvPr>
          <p:cNvSpPr/>
          <p:nvPr/>
        </p:nvSpPr>
        <p:spPr>
          <a:xfrm>
            <a:off x="838080" y="5410080"/>
            <a:ext cx="1143000" cy="838440"/>
          </a:xfrm>
          <a:custGeom>
            <a:avLst/>
            <a:gdLst>
              <a:gd name="textAreaLeft" fmla="*/ 54360 w 1143000"/>
              <a:gd name="textAreaRight" fmla="*/ 1088640 w 11430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9443" h="21600">
                <a:moveTo>
                  <a:pt x="0" y="0"/>
                </a:moveTo>
                <a:lnTo>
                  <a:pt x="29443" y="0"/>
                </a:lnTo>
                <a:lnTo>
                  <a:pt x="29443" y="21600"/>
                </a:lnTo>
                <a:lnTo>
                  <a:pt x="0" y="21600"/>
                </a:lnTo>
                <a:close/>
              </a:path>
              <a:path fill="lightenLess" w="29443" h="21600">
                <a:moveTo>
                  <a:pt x="0" y="0"/>
                </a:moveTo>
                <a:lnTo>
                  <a:pt x="29443" y="0"/>
                </a:lnTo>
                <a:lnTo>
                  <a:pt x="28043" y="1400"/>
                </a:lnTo>
                <a:lnTo>
                  <a:pt x="1400" y="1400"/>
                </a:lnTo>
                <a:close/>
              </a:path>
              <a:path fill="darken" w="29443" h="21600">
                <a:moveTo>
                  <a:pt x="29443" y="0"/>
                </a:moveTo>
                <a:lnTo>
                  <a:pt x="29443" y="21600"/>
                </a:lnTo>
                <a:lnTo>
                  <a:pt x="28043" y="20200"/>
                </a:lnTo>
                <a:lnTo>
                  <a:pt x="28043" y="1400"/>
                </a:lnTo>
                <a:close/>
              </a:path>
              <a:path fill="darkenLess" w="29443" h="21600">
                <a:moveTo>
                  <a:pt x="29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3" y="20200"/>
                </a:lnTo>
                <a:close/>
              </a:path>
              <a:path fill="lighten" w="29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3" h="21600">
                <a:moveTo>
                  <a:pt x="7715" y="7493"/>
                </a:moveTo>
                <a:lnTo>
                  <a:pt x="11222" y="7493"/>
                </a:lnTo>
                <a:lnTo>
                  <a:pt x="11222" y="12828"/>
                </a:lnTo>
                <a:cubicBezTo>
                  <a:pt x="11222" y="13751"/>
                  <a:pt x="12023" y="14482"/>
                  <a:pt x="13059" y="14482"/>
                </a:cubicBezTo>
                <a:lnTo>
                  <a:pt x="14721" y="14482"/>
                </a:lnTo>
                <a:cubicBezTo>
                  <a:pt x="15757" y="14482"/>
                  <a:pt x="16558" y="13751"/>
                  <a:pt x="16558" y="12828"/>
                </a:cubicBezTo>
                <a:lnTo>
                  <a:pt x="16558" y="7493"/>
                </a:lnTo>
                <a:lnTo>
                  <a:pt x="14721" y="7493"/>
                </a:lnTo>
                <a:lnTo>
                  <a:pt x="18229" y="3985"/>
                </a:lnTo>
                <a:lnTo>
                  <a:pt x="21902" y="7493"/>
                </a:lnTo>
                <a:lnTo>
                  <a:pt x="20065" y="7493"/>
                </a:lnTo>
                <a:lnTo>
                  <a:pt x="20065" y="12828"/>
                </a:lnTo>
                <a:cubicBezTo>
                  <a:pt x="20065" y="15596"/>
                  <a:pt x="17489" y="18155"/>
                  <a:pt x="14721" y="18155"/>
                </a:cubicBezTo>
                <a:lnTo>
                  <a:pt x="13059" y="18155"/>
                </a:lnTo>
                <a:cubicBezTo>
                  <a:pt x="10291" y="18155"/>
                  <a:pt x="7715" y="15596"/>
                  <a:pt x="7715" y="12828"/>
                </a:cubicBez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2513880"/>
            <a:ext cx="7696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imes New Roman"/>
              </a:rPr>
              <a:t>What is a thermometer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60F2-A348-43B7-9F96-C292148393A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14400" y="1905120"/>
            <a:ext cx="731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This instrument is used to measure air pressur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5D80-BA8D-4664-9C64-27B8A921A01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838080" y="5410080"/>
            <a:ext cx="1143000" cy="838440"/>
          </a:xfrm>
          <a:custGeom>
            <a:avLst/>
            <a:gdLst>
              <a:gd name="textAreaLeft" fmla="*/ 54360 w 1143000"/>
              <a:gd name="textAreaRight" fmla="*/ 1088640 w 11430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9443" h="21600">
                <a:moveTo>
                  <a:pt x="0" y="0"/>
                </a:moveTo>
                <a:lnTo>
                  <a:pt x="29443" y="0"/>
                </a:lnTo>
                <a:lnTo>
                  <a:pt x="29443" y="21600"/>
                </a:lnTo>
                <a:lnTo>
                  <a:pt x="0" y="21600"/>
                </a:lnTo>
                <a:close/>
              </a:path>
              <a:path fill="lightenLess" w="29443" h="21600">
                <a:moveTo>
                  <a:pt x="0" y="0"/>
                </a:moveTo>
                <a:lnTo>
                  <a:pt x="29443" y="0"/>
                </a:lnTo>
                <a:lnTo>
                  <a:pt x="28043" y="1400"/>
                </a:lnTo>
                <a:lnTo>
                  <a:pt x="1400" y="1400"/>
                </a:lnTo>
                <a:close/>
              </a:path>
              <a:path fill="darken" w="29443" h="21600">
                <a:moveTo>
                  <a:pt x="29443" y="0"/>
                </a:moveTo>
                <a:lnTo>
                  <a:pt x="29443" y="21600"/>
                </a:lnTo>
                <a:lnTo>
                  <a:pt x="28043" y="20200"/>
                </a:lnTo>
                <a:lnTo>
                  <a:pt x="28043" y="1400"/>
                </a:lnTo>
                <a:close/>
              </a:path>
              <a:path fill="darkenLess" w="29443" h="21600">
                <a:moveTo>
                  <a:pt x="29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3" y="20200"/>
                </a:lnTo>
                <a:close/>
              </a:path>
              <a:path fill="lighten" w="29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3" h="21600">
                <a:moveTo>
                  <a:pt x="7715" y="7493"/>
                </a:moveTo>
                <a:lnTo>
                  <a:pt x="11222" y="7493"/>
                </a:lnTo>
                <a:lnTo>
                  <a:pt x="11222" y="12828"/>
                </a:lnTo>
                <a:cubicBezTo>
                  <a:pt x="11222" y="13751"/>
                  <a:pt x="12023" y="14482"/>
                  <a:pt x="13059" y="14482"/>
                </a:cubicBezTo>
                <a:lnTo>
                  <a:pt x="14721" y="14482"/>
                </a:lnTo>
                <a:cubicBezTo>
                  <a:pt x="15757" y="14482"/>
                  <a:pt x="16558" y="13751"/>
                  <a:pt x="16558" y="12828"/>
                </a:cubicBezTo>
                <a:lnTo>
                  <a:pt x="16558" y="7493"/>
                </a:lnTo>
                <a:lnTo>
                  <a:pt x="14721" y="7493"/>
                </a:lnTo>
                <a:lnTo>
                  <a:pt x="18229" y="3985"/>
                </a:lnTo>
                <a:lnTo>
                  <a:pt x="21902" y="7493"/>
                </a:lnTo>
                <a:lnTo>
                  <a:pt x="20065" y="7493"/>
                </a:lnTo>
                <a:lnTo>
                  <a:pt x="20065" y="12828"/>
                </a:lnTo>
                <a:cubicBezTo>
                  <a:pt x="20065" y="15596"/>
                  <a:pt x="17489" y="18155"/>
                  <a:pt x="14721" y="18155"/>
                </a:cubicBezTo>
                <a:lnTo>
                  <a:pt x="13059" y="18155"/>
                </a:lnTo>
                <a:cubicBezTo>
                  <a:pt x="10291" y="18155"/>
                  <a:pt x="7715" y="15596"/>
                  <a:pt x="7715" y="12828"/>
                </a:cubicBez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2361240"/>
            <a:ext cx="502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imes New Roman"/>
              </a:rPr>
              <a:t>What is a barometer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103D-876C-4313-BC7B-622283AF199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990720" y="236232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This instrument measures wind speed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B65B-82FB-4A32-89F5-AA3CE79D8E9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>
            <a:hlinkClick r:id="rId2" action="ppaction://hlinksldjump"/>
          </p:cNvPr>
          <p:cNvSpPr/>
          <p:nvPr/>
        </p:nvSpPr>
        <p:spPr>
          <a:xfrm>
            <a:off x="838080" y="5410080"/>
            <a:ext cx="1143000" cy="838440"/>
          </a:xfrm>
          <a:custGeom>
            <a:avLst/>
            <a:gdLst>
              <a:gd name="textAreaLeft" fmla="*/ 54360 w 1143000"/>
              <a:gd name="textAreaRight" fmla="*/ 1088640 w 11430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9443" h="21600">
                <a:moveTo>
                  <a:pt x="0" y="0"/>
                </a:moveTo>
                <a:lnTo>
                  <a:pt x="29443" y="0"/>
                </a:lnTo>
                <a:lnTo>
                  <a:pt x="29443" y="21600"/>
                </a:lnTo>
                <a:lnTo>
                  <a:pt x="0" y="21600"/>
                </a:lnTo>
                <a:close/>
              </a:path>
              <a:path fill="lightenLess" w="29443" h="21600">
                <a:moveTo>
                  <a:pt x="0" y="0"/>
                </a:moveTo>
                <a:lnTo>
                  <a:pt x="29443" y="0"/>
                </a:lnTo>
                <a:lnTo>
                  <a:pt x="28043" y="1400"/>
                </a:lnTo>
                <a:lnTo>
                  <a:pt x="1400" y="1400"/>
                </a:lnTo>
                <a:close/>
              </a:path>
              <a:path fill="darken" w="29443" h="21600">
                <a:moveTo>
                  <a:pt x="29443" y="0"/>
                </a:moveTo>
                <a:lnTo>
                  <a:pt x="29443" y="21600"/>
                </a:lnTo>
                <a:lnTo>
                  <a:pt x="28043" y="20200"/>
                </a:lnTo>
                <a:lnTo>
                  <a:pt x="28043" y="1400"/>
                </a:lnTo>
                <a:close/>
              </a:path>
              <a:path fill="darkenLess" w="29443" h="21600">
                <a:moveTo>
                  <a:pt x="29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3" y="20200"/>
                </a:lnTo>
                <a:close/>
              </a:path>
              <a:path fill="lighten" w="29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3" h="21600">
                <a:moveTo>
                  <a:pt x="7715" y="7493"/>
                </a:moveTo>
                <a:lnTo>
                  <a:pt x="11222" y="7493"/>
                </a:lnTo>
                <a:lnTo>
                  <a:pt x="11222" y="12828"/>
                </a:lnTo>
                <a:cubicBezTo>
                  <a:pt x="11222" y="13751"/>
                  <a:pt x="12023" y="14482"/>
                  <a:pt x="13059" y="14482"/>
                </a:cubicBezTo>
                <a:lnTo>
                  <a:pt x="14721" y="14482"/>
                </a:lnTo>
                <a:cubicBezTo>
                  <a:pt x="15757" y="14482"/>
                  <a:pt x="16558" y="13751"/>
                  <a:pt x="16558" y="12828"/>
                </a:cubicBezTo>
                <a:lnTo>
                  <a:pt x="16558" y="7493"/>
                </a:lnTo>
                <a:lnTo>
                  <a:pt x="14721" y="7493"/>
                </a:lnTo>
                <a:lnTo>
                  <a:pt x="18229" y="3985"/>
                </a:lnTo>
                <a:lnTo>
                  <a:pt x="21902" y="7493"/>
                </a:lnTo>
                <a:lnTo>
                  <a:pt x="20065" y="7493"/>
                </a:lnTo>
                <a:lnTo>
                  <a:pt x="20065" y="12828"/>
                </a:lnTo>
                <a:cubicBezTo>
                  <a:pt x="20065" y="15596"/>
                  <a:pt x="17489" y="18155"/>
                  <a:pt x="14721" y="18155"/>
                </a:cubicBezTo>
                <a:lnTo>
                  <a:pt x="13059" y="18155"/>
                </a:lnTo>
                <a:cubicBezTo>
                  <a:pt x="10291" y="18155"/>
                  <a:pt x="7715" y="15596"/>
                  <a:pt x="7715" y="12828"/>
                </a:cubicBez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0" y="2559960"/>
            <a:ext cx="4952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imes New Roman"/>
              </a:rPr>
              <a:t>What is an anemometer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58FD-8D90-43BD-88C4-53DA24D64F3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14400" y="1828800"/>
            <a:ext cx="7315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The boundary between air masses of different temperature and humidity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B20A-2052-4CC9-AC89-3F65328015C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914400" y="2057400"/>
            <a:ext cx="73152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eathe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strumen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38F7-5493-45E8-8A6E-094143CB6A68}" type="slidenum">
              <a:t>2</a:t>
            </a:fld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867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867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38080" y="5410080"/>
            <a:ext cx="1143000" cy="838440"/>
          </a:xfrm>
          <a:custGeom>
            <a:avLst/>
            <a:gdLst>
              <a:gd name="textAreaLeft" fmla="*/ 54360 w 1143000"/>
              <a:gd name="textAreaRight" fmla="*/ 1088640 w 11430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9443" h="21600">
                <a:moveTo>
                  <a:pt x="0" y="0"/>
                </a:moveTo>
                <a:lnTo>
                  <a:pt x="29443" y="0"/>
                </a:lnTo>
                <a:lnTo>
                  <a:pt x="29443" y="21600"/>
                </a:lnTo>
                <a:lnTo>
                  <a:pt x="0" y="21600"/>
                </a:lnTo>
                <a:close/>
              </a:path>
              <a:path fill="lightenLess" w="29443" h="21600">
                <a:moveTo>
                  <a:pt x="0" y="0"/>
                </a:moveTo>
                <a:lnTo>
                  <a:pt x="29443" y="0"/>
                </a:lnTo>
                <a:lnTo>
                  <a:pt x="28043" y="1400"/>
                </a:lnTo>
                <a:lnTo>
                  <a:pt x="1400" y="1400"/>
                </a:lnTo>
                <a:close/>
              </a:path>
              <a:path fill="darken" w="29443" h="21600">
                <a:moveTo>
                  <a:pt x="29443" y="0"/>
                </a:moveTo>
                <a:lnTo>
                  <a:pt x="29443" y="21600"/>
                </a:lnTo>
                <a:lnTo>
                  <a:pt x="28043" y="20200"/>
                </a:lnTo>
                <a:lnTo>
                  <a:pt x="28043" y="1400"/>
                </a:lnTo>
                <a:close/>
              </a:path>
              <a:path fill="darkenLess" w="29443" h="21600">
                <a:moveTo>
                  <a:pt x="29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3" y="20200"/>
                </a:lnTo>
                <a:close/>
              </a:path>
              <a:path fill="lighten" w="29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3" h="21600">
                <a:moveTo>
                  <a:pt x="7715" y="7493"/>
                </a:moveTo>
                <a:lnTo>
                  <a:pt x="11222" y="7493"/>
                </a:lnTo>
                <a:lnTo>
                  <a:pt x="11222" y="12828"/>
                </a:lnTo>
                <a:cubicBezTo>
                  <a:pt x="11222" y="13751"/>
                  <a:pt x="12023" y="14482"/>
                  <a:pt x="13059" y="14482"/>
                </a:cubicBezTo>
                <a:lnTo>
                  <a:pt x="14721" y="14482"/>
                </a:lnTo>
                <a:cubicBezTo>
                  <a:pt x="15757" y="14482"/>
                  <a:pt x="16558" y="13751"/>
                  <a:pt x="16558" y="12828"/>
                </a:cubicBezTo>
                <a:lnTo>
                  <a:pt x="16558" y="7493"/>
                </a:lnTo>
                <a:lnTo>
                  <a:pt x="14721" y="7493"/>
                </a:lnTo>
                <a:lnTo>
                  <a:pt x="18229" y="3985"/>
                </a:lnTo>
                <a:lnTo>
                  <a:pt x="21902" y="7493"/>
                </a:lnTo>
                <a:lnTo>
                  <a:pt x="20065" y="7493"/>
                </a:lnTo>
                <a:lnTo>
                  <a:pt x="20065" y="12828"/>
                </a:lnTo>
                <a:cubicBezTo>
                  <a:pt x="20065" y="15596"/>
                  <a:pt x="17489" y="18155"/>
                  <a:pt x="14721" y="18155"/>
                </a:cubicBezTo>
                <a:lnTo>
                  <a:pt x="13059" y="18155"/>
                </a:lnTo>
                <a:cubicBezTo>
                  <a:pt x="10291" y="18155"/>
                  <a:pt x="7715" y="15596"/>
                  <a:pt x="7715" y="12828"/>
                </a:cubicBez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38520" y="2926440"/>
            <a:ext cx="5496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imes New Roman"/>
              </a:rPr>
              <a:t>What is a front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8C37-66DF-4171-800C-FCE069A3CA6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1447920"/>
            <a:ext cx="7315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is is due to the weight of the air and is determined by several factors including the temperature of the air and is measured with a baromet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D627-AA0E-4DD9-ADB2-65FED8A12A1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838080" y="5410080"/>
            <a:ext cx="1143000" cy="838440"/>
          </a:xfrm>
          <a:custGeom>
            <a:avLst/>
            <a:gdLst>
              <a:gd name="textAreaLeft" fmla="*/ 54360 w 1143000"/>
              <a:gd name="textAreaRight" fmla="*/ 1088640 w 11430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9443" h="21600">
                <a:moveTo>
                  <a:pt x="0" y="0"/>
                </a:moveTo>
                <a:lnTo>
                  <a:pt x="29443" y="0"/>
                </a:lnTo>
                <a:lnTo>
                  <a:pt x="29443" y="21600"/>
                </a:lnTo>
                <a:lnTo>
                  <a:pt x="0" y="21600"/>
                </a:lnTo>
                <a:close/>
              </a:path>
              <a:path fill="lightenLess" w="29443" h="21600">
                <a:moveTo>
                  <a:pt x="0" y="0"/>
                </a:moveTo>
                <a:lnTo>
                  <a:pt x="29443" y="0"/>
                </a:lnTo>
                <a:lnTo>
                  <a:pt x="28043" y="1400"/>
                </a:lnTo>
                <a:lnTo>
                  <a:pt x="1400" y="1400"/>
                </a:lnTo>
                <a:close/>
              </a:path>
              <a:path fill="darken" w="29443" h="21600">
                <a:moveTo>
                  <a:pt x="29443" y="0"/>
                </a:moveTo>
                <a:lnTo>
                  <a:pt x="29443" y="21600"/>
                </a:lnTo>
                <a:lnTo>
                  <a:pt x="28043" y="20200"/>
                </a:lnTo>
                <a:lnTo>
                  <a:pt x="28043" y="1400"/>
                </a:lnTo>
                <a:close/>
              </a:path>
              <a:path fill="darkenLess" w="29443" h="21600">
                <a:moveTo>
                  <a:pt x="29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3" y="20200"/>
                </a:lnTo>
                <a:close/>
              </a:path>
              <a:path fill="lighten" w="29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3" h="21600">
                <a:moveTo>
                  <a:pt x="7715" y="7493"/>
                </a:moveTo>
                <a:lnTo>
                  <a:pt x="11222" y="7493"/>
                </a:lnTo>
                <a:lnTo>
                  <a:pt x="11222" y="12828"/>
                </a:lnTo>
                <a:cubicBezTo>
                  <a:pt x="11222" y="13751"/>
                  <a:pt x="12023" y="14482"/>
                  <a:pt x="13059" y="14482"/>
                </a:cubicBezTo>
                <a:lnTo>
                  <a:pt x="14721" y="14482"/>
                </a:lnTo>
                <a:cubicBezTo>
                  <a:pt x="15757" y="14482"/>
                  <a:pt x="16558" y="13751"/>
                  <a:pt x="16558" y="12828"/>
                </a:cubicBezTo>
                <a:lnTo>
                  <a:pt x="16558" y="7493"/>
                </a:lnTo>
                <a:lnTo>
                  <a:pt x="14721" y="7493"/>
                </a:lnTo>
                <a:lnTo>
                  <a:pt x="18229" y="3985"/>
                </a:lnTo>
                <a:lnTo>
                  <a:pt x="21902" y="7493"/>
                </a:lnTo>
                <a:lnTo>
                  <a:pt x="20065" y="7493"/>
                </a:lnTo>
                <a:lnTo>
                  <a:pt x="20065" y="12828"/>
                </a:lnTo>
                <a:cubicBezTo>
                  <a:pt x="20065" y="15596"/>
                  <a:pt x="17489" y="18155"/>
                  <a:pt x="14721" y="18155"/>
                </a:cubicBezTo>
                <a:lnTo>
                  <a:pt x="13059" y="18155"/>
                </a:lnTo>
                <a:cubicBezTo>
                  <a:pt x="10291" y="18155"/>
                  <a:pt x="7715" y="15596"/>
                  <a:pt x="7715" y="12828"/>
                </a:cubicBez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00080" y="2926440"/>
            <a:ext cx="7189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imes New Roman"/>
              </a:rPr>
              <a:t>What is air pressure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3C8E-AC4A-4769-9B4E-2AF08121362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14400" y="1219320"/>
            <a:ext cx="73152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This is the amount of heat energy in the atmosphere that is measured by a thermometer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A5E4-E8D5-4025-9E7E-8AFF1526889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838080" y="5410080"/>
            <a:ext cx="1143000" cy="838440"/>
          </a:xfrm>
          <a:custGeom>
            <a:avLst/>
            <a:gdLst>
              <a:gd name="textAreaLeft" fmla="*/ 54360 w 1143000"/>
              <a:gd name="textAreaRight" fmla="*/ 1088640 w 11430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9443" h="21600">
                <a:moveTo>
                  <a:pt x="0" y="0"/>
                </a:moveTo>
                <a:lnTo>
                  <a:pt x="29443" y="0"/>
                </a:lnTo>
                <a:lnTo>
                  <a:pt x="29443" y="21600"/>
                </a:lnTo>
                <a:lnTo>
                  <a:pt x="0" y="21600"/>
                </a:lnTo>
                <a:close/>
              </a:path>
              <a:path fill="lightenLess" w="29443" h="21600">
                <a:moveTo>
                  <a:pt x="0" y="0"/>
                </a:moveTo>
                <a:lnTo>
                  <a:pt x="29443" y="0"/>
                </a:lnTo>
                <a:lnTo>
                  <a:pt x="28043" y="1400"/>
                </a:lnTo>
                <a:lnTo>
                  <a:pt x="1400" y="1400"/>
                </a:lnTo>
                <a:close/>
              </a:path>
              <a:path fill="darken" w="29443" h="21600">
                <a:moveTo>
                  <a:pt x="29443" y="0"/>
                </a:moveTo>
                <a:lnTo>
                  <a:pt x="29443" y="21600"/>
                </a:lnTo>
                <a:lnTo>
                  <a:pt x="28043" y="20200"/>
                </a:lnTo>
                <a:lnTo>
                  <a:pt x="28043" y="1400"/>
                </a:lnTo>
                <a:close/>
              </a:path>
              <a:path fill="darkenLess" w="29443" h="21600">
                <a:moveTo>
                  <a:pt x="29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3" y="20200"/>
                </a:lnTo>
                <a:close/>
              </a:path>
              <a:path fill="lighten" w="29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3" h="21600">
                <a:moveTo>
                  <a:pt x="7715" y="7493"/>
                </a:moveTo>
                <a:lnTo>
                  <a:pt x="11222" y="7493"/>
                </a:lnTo>
                <a:lnTo>
                  <a:pt x="11222" y="12828"/>
                </a:lnTo>
                <a:cubicBezTo>
                  <a:pt x="11222" y="13751"/>
                  <a:pt x="12023" y="14482"/>
                  <a:pt x="13059" y="14482"/>
                </a:cubicBezTo>
                <a:lnTo>
                  <a:pt x="14721" y="14482"/>
                </a:lnTo>
                <a:cubicBezTo>
                  <a:pt x="15757" y="14482"/>
                  <a:pt x="16558" y="13751"/>
                  <a:pt x="16558" y="12828"/>
                </a:cubicBezTo>
                <a:lnTo>
                  <a:pt x="16558" y="7493"/>
                </a:lnTo>
                <a:lnTo>
                  <a:pt x="14721" y="7493"/>
                </a:lnTo>
                <a:lnTo>
                  <a:pt x="18229" y="3985"/>
                </a:lnTo>
                <a:lnTo>
                  <a:pt x="21902" y="7493"/>
                </a:lnTo>
                <a:lnTo>
                  <a:pt x="20065" y="7493"/>
                </a:lnTo>
                <a:lnTo>
                  <a:pt x="20065" y="12828"/>
                </a:lnTo>
                <a:cubicBezTo>
                  <a:pt x="20065" y="15596"/>
                  <a:pt x="17489" y="18155"/>
                  <a:pt x="14721" y="18155"/>
                </a:cubicBezTo>
                <a:lnTo>
                  <a:pt x="13059" y="18155"/>
                </a:lnTo>
                <a:cubicBezTo>
                  <a:pt x="10291" y="18155"/>
                  <a:pt x="7715" y="15596"/>
                  <a:pt x="7715" y="12828"/>
                </a:cubicBez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77000" y="2469240"/>
            <a:ext cx="462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imes New Roman"/>
              </a:rPr>
              <a:t>What is the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imes New Roman"/>
              </a:rPr>
              <a:t>temperature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F450-4703-4D38-A588-61604FC9A19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066680" y="1523880"/>
            <a:ext cx="7315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The amount of water vapor in the air usually measured with a hygrometer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E170-1EDD-44AE-BB02-03FE29DF766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>
            <a:hlinkClick r:id="rId2" action="ppaction://hlinksldjump"/>
          </p:cNvPr>
          <p:cNvSpPr/>
          <p:nvPr/>
        </p:nvSpPr>
        <p:spPr>
          <a:xfrm>
            <a:off x="838080" y="5410080"/>
            <a:ext cx="1143000" cy="838440"/>
          </a:xfrm>
          <a:custGeom>
            <a:avLst/>
            <a:gdLst>
              <a:gd name="textAreaLeft" fmla="*/ 54360 w 1143000"/>
              <a:gd name="textAreaRight" fmla="*/ 1088640 w 11430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9443" h="21600">
                <a:moveTo>
                  <a:pt x="0" y="0"/>
                </a:moveTo>
                <a:lnTo>
                  <a:pt x="29443" y="0"/>
                </a:lnTo>
                <a:lnTo>
                  <a:pt x="29443" y="21600"/>
                </a:lnTo>
                <a:lnTo>
                  <a:pt x="0" y="21600"/>
                </a:lnTo>
                <a:close/>
              </a:path>
              <a:path fill="lightenLess" w="29443" h="21600">
                <a:moveTo>
                  <a:pt x="0" y="0"/>
                </a:moveTo>
                <a:lnTo>
                  <a:pt x="29443" y="0"/>
                </a:lnTo>
                <a:lnTo>
                  <a:pt x="28043" y="1400"/>
                </a:lnTo>
                <a:lnTo>
                  <a:pt x="1400" y="1400"/>
                </a:lnTo>
                <a:close/>
              </a:path>
              <a:path fill="darken" w="29443" h="21600">
                <a:moveTo>
                  <a:pt x="29443" y="0"/>
                </a:moveTo>
                <a:lnTo>
                  <a:pt x="29443" y="21600"/>
                </a:lnTo>
                <a:lnTo>
                  <a:pt x="28043" y="20200"/>
                </a:lnTo>
                <a:lnTo>
                  <a:pt x="28043" y="1400"/>
                </a:lnTo>
                <a:close/>
              </a:path>
              <a:path fill="darkenLess" w="29443" h="21600">
                <a:moveTo>
                  <a:pt x="29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3" y="20200"/>
                </a:lnTo>
                <a:close/>
              </a:path>
              <a:path fill="lighten" w="29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3" h="21600">
                <a:moveTo>
                  <a:pt x="7715" y="7493"/>
                </a:moveTo>
                <a:lnTo>
                  <a:pt x="11222" y="7493"/>
                </a:lnTo>
                <a:lnTo>
                  <a:pt x="11222" y="12828"/>
                </a:lnTo>
                <a:cubicBezTo>
                  <a:pt x="11222" y="13751"/>
                  <a:pt x="12023" y="14482"/>
                  <a:pt x="13059" y="14482"/>
                </a:cubicBezTo>
                <a:lnTo>
                  <a:pt x="14721" y="14482"/>
                </a:lnTo>
                <a:cubicBezTo>
                  <a:pt x="15757" y="14482"/>
                  <a:pt x="16558" y="13751"/>
                  <a:pt x="16558" y="12828"/>
                </a:cubicBezTo>
                <a:lnTo>
                  <a:pt x="16558" y="7493"/>
                </a:lnTo>
                <a:lnTo>
                  <a:pt x="14721" y="7493"/>
                </a:lnTo>
                <a:lnTo>
                  <a:pt x="18229" y="3985"/>
                </a:lnTo>
                <a:lnTo>
                  <a:pt x="21902" y="7493"/>
                </a:lnTo>
                <a:lnTo>
                  <a:pt x="20065" y="7493"/>
                </a:lnTo>
                <a:lnTo>
                  <a:pt x="20065" y="12828"/>
                </a:lnTo>
                <a:cubicBezTo>
                  <a:pt x="20065" y="15596"/>
                  <a:pt x="17489" y="18155"/>
                  <a:pt x="14721" y="18155"/>
                </a:cubicBezTo>
                <a:lnTo>
                  <a:pt x="13059" y="18155"/>
                </a:lnTo>
                <a:cubicBezTo>
                  <a:pt x="10291" y="18155"/>
                  <a:pt x="7715" y="15596"/>
                  <a:pt x="7715" y="12828"/>
                </a:cubicBez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67000" y="2926440"/>
            <a:ext cx="623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imes New Roman"/>
              </a:rPr>
              <a:t>What is humidity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0999-1480-474E-8DCB-84A35A19959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990720" y="2057400"/>
            <a:ext cx="7315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The weather an area experiences over an extended period of tim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6EC9-2A40-4D61-83AD-BB8480CD0DA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38080" y="5410080"/>
            <a:ext cx="1143000" cy="838440"/>
          </a:xfrm>
          <a:custGeom>
            <a:avLst/>
            <a:gdLst>
              <a:gd name="textAreaLeft" fmla="*/ 54360 w 1143000"/>
              <a:gd name="textAreaRight" fmla="*/ 1088640 w 11430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9443" h="21600">
                <a:moveTo>
                  <a:pt x="0" y="0"/>
                </a:moveTo>
                <a:lnTo>
                  <a:pt x="29443" y="0"/>
                </a:lnTo>
                <a:lnTo>
                  <a:pt x="29443" y="21600"/>
                </a:lnTo>
                <a:lnTo>
                  <a:pt x="0" y="21600"/>
                </a:lnTo>
                <a:close/>
              </a:path>
              <a:path fill="lightenLess" w="29443" h="21600">
                <a:moveTo>
                  <a:pt x="0" y="0"/>
                </a:moveTo>
                <a:lnTo>
                  <a:pt x="29443" y="0"/>
                </a:lnTo>
                <a:lnTo>
                  <a:pt x="28043" y="1400"/>
                </a:lnTo>
                <a:lnTo>
                  <a:pt x="1400" y="1400"/>
                </a:lnTo>
                <a:close/>
              </a:path>
              <a:path fill="darken" w="29443" h="21600">
                <a:moveTo>
                  <a:pt x="29443" y="0"/>
                </a:moveTo>
                <a:lnTo>
                  <a:pt x="29443" y="21600"/>
                </a:lnTo>
                <a:lnTo>
                  <a:pt x="28043" y="20200"/>
                </a:lnTo>
                <a:lnTo>
                  <a:pt x="28043" y="1400"/>
                </a:lnTo>
                <a:close/>
              </a:path>
              <a:path fill="darkenLess" w="29443" h="21600">
                <a:moveTo>
                  <a:pt x="29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3" y="20200"/>
                </a:lnTo>
                <a:close/>
              </a:path>
              <a:path fill="lighten" w="29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3" h="21600">
                <a:moveTo>
                  <a:pt x="7715" y="7493"/>
                </a:moveTo>
                <a:lnTo>
                  <a:pt x="11222" y="7493"/>
                </a:lnTo>
                <a:lnTo>
                  <a:pt x="11222" y="12828"/>
                </a:lnTo>
                <a:cubicBezTo>
                  <a:pt x="11222" y="13751"/>
                  <a:pt x="12023" y="14482"/>
                  <a:pt x="13059" y="14482"/>
                </a:cubicBezTo>
                <a:lnTo>
                  <a:pt x="14721" y="14482"/>
                </a:lnTo>
                <a:cubicBezTo>
                  <a:pt x="15757" y="14482"/>
                  <a:pt x="16558" y="13751"/>
                  <a:pt x="16558" y="12828"/>
                </a:cubicBezTo>
                <a:lnTo>
                  <a:pt x="16558" y="7493"/>
                </a:lnTo>
                <a:lnTo>
                  <a:pt x="14721" y="7493"/>
                </a:lnTo>
                <a:lnTo>
                  <a:pt x="18229" y="3985"/>
                </a:lnTo>
                <a:lnTo>
                  <a:pt x="21902" y="7493"/>
                </a:lnTo>
                <a:lnTo>
                  <a:pt x="20065" y="7493"/>
                </a:lnTo>
                <a:lnTo>
                  <a:pt x="20065" y="12828"/>
                </a:lnTo>
                <a:cubicBezTo>
                  <a:pt x="20065" y="15596"/>
                  <a:pt x="17489" y="18155"/>
                  <a:pt x="14721" y="18155"/>
                </a:cubicBezTo>
                <a:lnTo>
                  <a:pt x="13059" y="18155"/>
                </a:lnTo>
                <a:cubicBezTo>
                  <a:pt x="10291" y="18155"/>
                  <a:pt x="7715" y="15596"/>
                  <a:pt x="7715" y="12828"/>
                </a:cubicBez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58600" y="2926440"/>
            <a:ext cx="564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imes New Roman"/>
              </a:rPr>
              <a:t>What is climate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3890-8EA2-4AEB-BEAE-0FD2CDCB40C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219320" y="990720"/>
            <a:ext cx="7010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continuous movement of water from water sources from the ground to the air and back to the ground to water sourc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B1EA-BBFF-4315-8080-A6BEB2E09BA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143000" y="1371600"/>
            <a:ext cx="731520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eathe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erm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EB00-F4F8-414D-A65C-20CA5668AF73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>
            <a:hlinkClick r:id="rId2" action="ppaction://hlinksldjump"/>
          </p:cNvPr>
          <p:cNvSpPr/>
          <p:nvPr/>
        </p:nvSpPr>
        <p:spPr>
          <a:xfrm>
            <a:off x="838080" y="5410080"/>
            <a:ext cx="1143000" cy="838440"/>
          </a:xfrm>
          <a:custGeom>
            <a:avLst/>
            <a:gdLst>
              <a:gd name="textAreaLeft" fmla="*/ 54360 w 1143000"/>
              <a:gd name="textAreaRight" fmla="*/ 1088640 w 11430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9443" h="21600">
                <a:moveTo>
                  <a:pt x="0" y="0"/>
                </a:moveTo>
                <a:lnTo>
                  <a:pt x="29443" y="0"/>
                </a:lnTo>
                <a:lnTo>
                  <a:pt x="29443" y="21600"/>
                </a:lnTo>
                <a:lnTo>
                  <a:pt x="0" y="21600"/>
                </a:lnTo>
                <a:close/>
              </a:path>
              <a:path fill="lightenLess" w="29443" h="21600">
                <a:moveTo>
                  <a:pt x="0" y="0"/>
                </a:moveTo>
                <a:lnTo>
                  <a:pt x="29443" y="0"/>
                </a:lnTo>
                <a:lnTo>
                  <a:pt x="28043" y="1400"/>
                </a:lnTo>
                <a:lnTo>
                  <a:pt x="1400" y="1400"/>
                </a:lnTo>
                <a:close/>
              </a:path>
              <a:path fill="darken" w="29443" h="21600">
                <a:moveTo>
                  <a:pt x="29443" y="0"/>
                </a:moveTo>
                <a:lnTo>
                  <a:pt x="29443" y="21600"/>
                </a:lnTo>
                <a:lnTo>
                  <a:pt x="28043" y="20200"/>
                </a:lnTo>
                <a:lnTo>
                  <a:pt x="28043" y="1400"/>
                </a:lnTo>
                <a:close/>
              </a:path>
              <a:path fill="darkenLess" w="29443" h="21600">
                <a:moveTo>
                  <a:pt x="29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3" y="20200"/>
                </a:lnTo>
                <a:close/>
              </a:path>
              <a:path fill="lighten" w="29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3" h="21600">
                <a:moveTo>
                  <a:pt x="7715" y="7493"/>
                </a:moveTo>
                <a:lnTo>
                  <a:pt x="11222" y="7493"/>
                </a:lnTo>
                <a:lnTo>
                  <a:pt x="11222" y="12828"/>
                </a:lnTo>
                <a:cubicBezTo>
                  <a:pt x="11222" y="13751"/>
                  <a:pt x="12023" y="14482"/>
                  <a:pt x="13059" y="14482"/>
                </a:cubicBezTo>
                <a:lnTo>
                  <a:pt x="14721" y="14482"/>
                </a:lnTo>
                <a:cubicBezTo>
                  <a:pt x="15757" y="14482"/>
                  <a:pt x="16558" y="13751"/>
                  <a:pt x="16558" y="12828"/>
                </a:cubicBezTo>
                <a:lnTo>
                  <a:pt x="16558" y="7493"/>
                </a:lnTo>
                <a:lnTo>
                  <a:pt x="14721" y="7493"/>
                </a:lnTo>
                <a:lnTo>
                  <a:pt x="18229" y="3985"/>
                </a:lnTo>
                <a:lnTo>
                  <a:pt x="21902" y="7493"/>
                </a:lnTo>
                <a:lnTo>
                  <a:pt x="20065" y="7493"/>
                </a:lnTo>
                <a:lnTo>
                  <a:pt x="20065" y="12828"/>
                </a:lnTo>
                <a:cubicBezTo>
                  <a:pt x="20065" y="15596"/>
                  <a:pt x="17489" y="18155"/>
                  <a:pt x="14721" y="18155"/>
                </a:cubicBezTo>
                <a:lnTo>
                  <a:pt x="13059" y="18155"/>
                </a:lnTo>
                <a:cubicBezTo>
                  <a:pt x="10291" y="18155"/>
                  <a:pt x="7715" y="15596"/>
                  <a:pt x="7715" y="12828"/>
                </a:cubicBez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2469240"/>
            <a:ext cx="7743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imes New Roman"/>
              </a:rPr>
              <a:t>What is the water cycle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7F62-AD1D-44E7-91BC-13E3CC5F4BA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762120" y="1676520"/>
            <a:ext cx="7315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A collection of millions of tiny water droplets or ice crystal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1FDE-2C47-4652-BA71-45F417FD7A3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>
            <a:hlinkClick r:id="rId2" action="ppaction://hlinksldjump"/>
          </p:cNvPr>
          <p:cNvSpPr/>
          <p:nvPr/>
        </p:nvSpPr>
        <p:spPr>
          <a:xfrm>
            <a:off x="838080" y="5410080"/>
            <a:ext cx="1143000" cy="838440"/>
          </a:xfrm>
          <a:custGeom>
            <a:avLst/>
            <a:gdLst>
              <a:gd name="textAreaLeft" fmla="*/ 54360 w 1143000"/>
              <a:gd name="textAreaRight" fmla="*/ 1088640 w 11430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9443" h="21600">
                <a:moveTo>
                  <a:pt x="0" y="0"/>
                </a:moveTo>
                <a:lnTo>
                  <a:pt x="29443" y="0"/>
                </a:lnTo>
                <a:lnTo>
                  <a:pt x="29443" y="21600"/>
                </a:lnTo>
                <a:lnTo>
                  <a:pt x="0" y="21600"/>
                </a:lnTo>
                <a:close/>
              </a:path>
              <a:path fill="lightenLess" w="29443" h="21600">
                <a:moveTo>
                  <a:pt x="0" y="0"/>
                </a:moveTo>
                <a:lnTo>
                  <a:pt x="29443" y="0"/>
                </a:lnTo>
                <a:lnTo>
                  <a:pt x="28043" y="1400"/>
                </a:lnTo>
                <a:lnTo>
                  <a:pt x="1400" y="1400"/>
                </a:lnTo>
                <a:close/>
              </a:path>
              <a:path fill="darken" w="29443" h="21600">
                <a:moveTo>
                  <a:pt x="29443" y="0"/>
                </a:moveTo>
                <a:lnTo>
                  <a:pt x="29443" y="21600"/>
                </a:lnTo>
                <a:lnTo>
                  <a:pt x="28043" y="20200"/>
                </a:lnTo>
                <a:lnTo>
                  <a:pt x="28043" y="1400"/>
                </a:lnTo>
                <a:close/>
              </a:path>
              <a:path fill="darkenLess" w="29443" h="21600">
                <a:moveTo>
                  <a:pt x="29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3" y="20200"/>
                </a:lnTo>
                <a:close/>
              </a:path>
              <a:path fill="lighten" w="29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3" h="21600">
                <a:moveTo>
                  <a:pt x="7715" y="7493"/>
                </a:moveTo>
                <a:lnTo>
                  <a:pt x="11222" y="7493"/>
                </a:lnTo>
                <a:lnTo>
                  <a:pt x="11222" y="12828"/>
                </a:lnTo>
                <a:cubicBezTo>
                  <a:pt x="11222" y="13751"/>
                  <a:pt x="12023" y="14482"/>
                  <a:pt x="13059" y="14482"/>
                </a:cubicBezTo>
                <a:lnTo>
                  <a:pt x="14721" y="14482"/>
                </a:lnTo>
                <a:cubicBezTo>
                  <a:pt x="15757" y="14482"/>
                  <a:pt x="16558" y="13751"/>
                  <a:pt x="16558" y="12828"/>
                </a:cubicBezTo>
                <a:lnTo>
                  <a:pt x="16558" y="7493"/>
                </a:lnTo>
                <a:lnTo>
                  <a:pt x="14721" y="7493"/>
                </a:lnTo>
                <a:lnTo>
                  <a:pt x="18229" y="3985"/>
                </a:lnTo>
                <a:lnTo>
                  <a:pt x="21902" y="7493"/>
                </a:lnTo>
                <a:lnTo>
                  <a:pt x="20065" y="7493"/>
                </a:lnTo>
                <a:lnTo>
                  <a:pt x="20065" y="12828"/>
                </a:lnTo>
                <a:cubicBezTo>
                  <a:pt x="20065" y="15596"/>
                  <a:pt x="17489" y="18155"/>
                  <a:pt x="14721" y="18155"/>
                </a:cubicBezTo>
                <a:lnTo>
                  <a:pt x="13059" y="18155"/>
                </a:lnTo>
                <a:cubicBezTo>
                  <a:pt x="10291" y="18155"/>
                  <a:pt x="7715" y="15596"/>
                  <a:pt x="7715" y="12828"/>
                </a:cubicBez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70840" y="2926440"/>
            <a:ext cx="562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imes New Roman"/>
              </a:rPr>
              <a:t>What is a cloud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5CEE-BFB3-48E1-A810-22E445ECC8A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990720" y="2514600"/>
            <a:ext cx="731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Any form of water that falls from the clouds to the ground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2E9D-FC21-4DC2-9C82-7F215D81473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>
            <a:hlinkClick r:id="rId2" action="ppaction://hlinksldjump"/>
          </p:cNvPr>
          <p:cNvSpPr/>
          <p:nvPr/>
        </p:nvSpPr>
        <p:spPr>
          <a:xfrm>
            <a:off x="838080" y="5410080"/>
            <a:ext cx="1143000" cy="838440"/>
          </a:xfrm>
          <a:custGeom>
            <a:avLst/>
            <a:gdLst>
              <a:gd name="textAreaLeft" fmla="*/ 54360 w 1143000"/>
              <a:gd name="textAreaRight" fmla="*/ 1088640 w 11430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9443" h="21600">
                <a:moveTo>
                  <a:pt x="0" y="0"/>
                </a:moveTo>
                <a:lnTo>
                  <a:pt x="29443" y="0"/>
                </a:lnTo>
                <a:lnTo>
                  <a:pt x="29443" y="21600"/>
                </a:lnTo>
                <a:lnTo>
                  <a:pt x="0" y="21600"/>
                </a:lnTo>
                <a:close/>
              </a:path>
              <a:path fill="lightenLess" w="29443" h="21600">
                <a:moveTo>
                  <a:pt x="0" y="0"/>
                </a:moveTo>
                <a:lnTo>
                  <a:pt x="29443" y="0"/>
                </a:lnTo>
                <a:lnTo>
                  <a:pt x="28043" y="1400"/>
                </a:lnTo>
                <a:lnTo>
                  <a:pt x="1400" y="1400"/>
                </a:lnTo>
                <a:close/>
              </a:path>
              <a:path fill="darken" w="29443" h="21600">
                <a:moveTo>
                  <a:pt x="29443" y="0"/>
                </a:moveTo>
                <a:lnTo>
                  <a:pt x="29443" y="21600"/>
                </a:lnTo>
                <a:lnTo>
                  <a:pt x="28043" y="20200"/>
                </a:lnTo>
                <a:lnTo>
                  <a:pt x="28043" y="1400"/>
                </a:lnTo>
                <a:close/>
              </a:path>
              <a:path fill="darkenLess" w="29443" h="21600">
                <a:moveTo>
                  <a:pt x="29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3" y="20200"/>
                </a:lnTo>
                <a:close/>
              </a:path>
              <a:path fill="lighten" w="29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3" h="21600">
                <a:moveTo>
                  <a:pt x="7715" y="7493"/>
                </a:moveTo>
                <a:lnTo>
                  <a:pt x="11222" y="7493"/>
                </a:lnTo>
                <a:lnTo>
                  <a:pt x="11222" y="12828"/>
                </a:lnTo>
                <a:cubicBezTo>
                  <a:pt x="11222" y="13751"/>
                  <a:pt x="12023" y="14482"/>
                  <a:pt x="13059" y="14482"/>
                </a:cubicBezTo>
                <a:lnTo>
                  <a:pt x="14721" y="14482"/>
                </a:lnTo>
                <a:cubicBezTo>
                  <a:pt x="15757" y="14482"/>
                  <a:pt x="16558" y="13751"/>
                  <a:pt x="16558" y="12828"/>
                </a:cubicBezTo>
                <a:lnTo>
                  <a:pt x="16558" y="7493"/>
                </a:lnTo>
                <a:lnTo>
                  <a:pt x="14721" y="7493"/>
                </a:lnTo>
                <a:lnTo>
                  <a:pt x="18229" y="3985"/>
                </a:lnTo>
                <a:lnTo>
                  <a:pt x="21902" y="7493"/>
                </a:lnTo>
                <a:lnTo>
                  <a:pt x="20065" y="7493"/>
                </a:lnTo>
                <a:lnTo>
                  <a:pt x="20065" y="12828"/>
                </a:lnTo>
                <a:cubicBezTo>
                  <a:pt x="20065" y="15596"/>
                  <a:pt x="17489" y="18155"/>
                  <a:pt x="14721" y="18155"/>
                </a:cubicBezTo>
                <a:lnTo>
                  <a:pt x="13059" y="18155"/>
                </a:lnTo>
                <a:cubicBezTo>
                  <a:pt x="10291" y="18155"/>
                  <a:pt x="7715" y="15596"/>
                  <a:pt x="7715" y="12828"/>
                </a:cubicBez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08240" y="2469240"/>
            <a:ext cx="475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imes New Roman"/>
              </a:rPr>
              <a:t>What i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imes New Roman"/>
              </a:rPr>
              <a:t>precipitation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F455-8E89-4369-B768-194A2D843C8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914400" y="213372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When water changes from a liquid to a ga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AE50-BA96-49D7-A86E-FBC664189EF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838080" y="5410080"/>
            <a:ext cx="1143000" cy="838440"/>
          </a:xfrm>
          <a:custGeom>
            <a:avLst/>
            <a:gdLst>
              <a:gd name="textAreaLeft" fmla="*/ 54360 w 1143000"/>
              <a:gd name="textAreaRight" fmla="*/ 1088640 w 11430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9443" h="21600">
                <a:moveTo>
                  <a:pt x="0" y="0"/>
                </a:moveTo>
                <a:lnTo>
                  <a:pt x="29443" y="0"/>
                </a:lnTo>
                <a:lnTo>
                  <a:pt x="29443" y="21600"/>
                </a:lnTo>
                <a:lnTo>
                  <a:pt x="0" y="21600"/>
                </a:lnTo>
                <a:close/>
              </a:path>
              <a:path fill="lightenLess" w="29443" h="21600">
                <a:moveTo>
                  <a:pt x="0" y="0"/>
                </a:moveTo>
                <a:lnTo>
                  <a:pt x="29443" y="0"/>
                </a:lnTo>
                <a:lnTo>
                  <a:pt x="28043" y="1400"/>
                </a:lnTo>
                <a:lnTo>
                  <a:pt x="1400" y="1400"/>
                </a:lnTo>
                <a:close/>
              </a:path>
              <a:path fill="darken" w="29443" h="21600">
                <a:moveTo>
                  <a:pt x="29443" y="0"/>
                </a:moveTo>
                <a:lnTo>
                  <a:pt x="29443" y="21600"/>
                </a:lnTo>
                <a:lnTo>
                  <a:pt x="28043" y="20200"/>
                </a:lnTo>
                <a:lnTo>
                  <a:pt x="28043" y="1400"/>
                </a:lnTo>
                <a:close/>
              </a:path>
              <a:path fill="darkenLess" w="29443" h="21600">
                <a:moveTo>
                  <a:pt x="29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3" y="20200"/>
                </a:lnTo>
                <a:close/>
              </a:path>
              <a:path fill="lighten" w="29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3" h="21600">
                <a:moveTo>
                  <a:pt x="7715" y="7493"/>
                </a:moveTo>
                <a:lnTo>
                  <a:pt x="11222" y="7493"/>
                </a:lnTo>
                <a:lnTo>
                  <a:pt x="11222" y="12828"/>
                </a:lnTo>
                <a:cubicBezTo>
                  <a:pt x="11222" y="13751"/>
                  <a:pt x="12023" y="14482"/>
                  <a:pt x="13059" y="14482"/>
                </a:cubicBezTo>
                <a:lnTo>
                  <a:pt x="14721" y="14482"/>
                </a:lnTo>
                <a:cubicBezTo>
                  <a:pt x="15757" y="14482"/>
                  <a:pt x="16558" y="13751"/>
                  <a:pt x="16558" y="12828"/>
                </a:cubicBezTo>
                <a:lnTo>
                  <a:pt x="16558" y="7493"/>
                </a:lnTo>
                <a:lnTo>
                  <a:pt x="14721" y="7493"/>
                </a:lnTo>
                <a:lnTo>
                  <a:pt x="18229" y="3985"/>
                </a:lnTo>
                <a:lnTo>
                  <a:pt x="21902" y="7493"/>
                </a:lnTo>
                <a:lnTo>
                  <a:pt x="20065" y="7493"/>
                </a:lnTo>
                <a:lnTo>
                  <a:pt x="20065" y="12828"/>
                </a:lnTo>
                <a:cubicBezTo>
                  <a:pt x="20065" y="15596"/>
                  <a:pt x="17489" y="18155"/>
                  <a:pt x="14721" y="18155"/>
                </a:cubicBezTo>
                <a:lnTo>
                  <a:pt x="13059" y="18155"/>
                </a:lnTo>
                <a:cubicBezTo>
                  <a:pt x="10291" y="18155"/>
                  <a:pt x="7715" y="15596"/>
                  <a:pt x="7715" y="12828"/>
                </a:cubicBez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95280" y="2467800"/>
            <a:ext cx="685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imes New Roman"/>
              </a:rPr>
              <a:t>What is evaporation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DBA7-46E0-412B-8957-7E1C0C94E80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990720" y="2057400"/>
            <a:ext cx="7315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When water changes from a gas back to a liquid to form a cloud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7A71-5F6C-418A-B613-025A6B2D1F8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>
            <a:hlinkClick r:id="rId2" action="ppaction://hlinksldjump"/>
          </p:cNvPr>
          <p:cNvSpPr/>
          <p:nvPr/>
        </p:nvSpPr>
        <p:spPr>
          <a:xfrm>
            <a:off x="838080" y="5410080"/>
            <a:ext cx="1143000" cy="838440"/>
          </a:xfrm>
          <a:custGeom>
            <a:avLst/>
            <a:gdLst>
              <a:gd name="textAreaLeft" fmla="*/ 54360 w 1143000"/>
              <a:gd name="textAreaRight" fmla="*/ 1088640 w 11430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9443" h="21600">
                <a:moveTo>
                  <a:pt x="0" y="0"/>
                </a:moveTo>
                <a:lnTo>
                  <a:pt x="29443" y="0"/>
                </a:lnTo>
                <a:lnTo>
                  <a:pt x="29443" y="21600"/>
                </a:lnTo>
                <a:lnTo>
                  <a:pt x="0" y="21600"/>
                </a:lnTo>
                <a:close/>
              </a:path>
              <a:path fill="lightenLess" w="29443" h="21600">
                <a:moveTo>
                  <a:pt x="0" y="0"/>
                </a:moveTo>
                <a:lnTo>
                  <a:pt x="29443" y="0"/>
                </a:lnTo>
                <a:lnTo>
                  <a:pt x="28043" y="1400"/>
                </a:lnTo>
                <a:lnTo>
                  <a:pt x="1400" y="1400"/>
                </a:lnTo>
                <a:close/>
              </a:path>
              <a:path fill="darken" w="29443" h="21600">
                <a:moveTo>
                  <a:pt x="29443" y="0"/>
                </a:moveTo>
                <a:lnTo>
                  <a:pt x="29443" y="21600"/>
                </a:lnTo>
                <a:lnTo>
                  <a:pt x="28043" y="20200"/>
                </a:lnTo>
                <a:lnTo>
                  <a:pt x="28043" y="1400"/>
                </a:lnTo>
                <a:close/>
              </a:path>
              <a:path fill="darkenLess" w="29443" h="21600">
                <a:moveTo>
                  <a:pt x="29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3" y="20200"/>
                </a:lnTo>
                <a:close/>
              </a:path>
              <a:path fill="lighten" w="29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3" h="21600">
                <a:moveTo>
                  <a:pt x="7715" y="7493"/>
                </a:moveTo>
                <a:lnTo>
                  <a:pt x="11222" y="7493"/>
                </a:lnTo>
                <a:lnTo>
                  <a:pt x="11222" y="12828"/>
                </a:lnTo>
                <a:cubicBezTo>
                  <a:pt x="11222" y="13751"/>
                  <a:pt x="12023" y="14482"/>
                  <a:pt x="13059" y="14482"/>
                </a:cubicBezTo>
                <a:lnTo>
                  <a:pt x="14721" y="14482"/>
                </a:lnTo>
                <a:cubicBezTo>
                  <a:pt x="15757" y="14482"/>
                  <a:pt x="16558" y="13751"/>
                  <a:pt x="16558" y="12828"/>
                </a:cubicBezTo>
                <a:lnTo>
                  <a:pt x="16558" y="7493"/>
                </a:lnTo>
                <a:lnTo>
                  <a:pt x="14721" y="7493"/>
                </a:lnTo>
                <a:lnTo>
                  <a:pt x="18229" y="3985"/>
                </a:lnTo>
                <a:lnTo>
                  <a:pt x="21902" y="7493"/>
                </a:lnTo>
                <a:lnTo>
                  <a:pt x="20065" y="7493"/>
                </a:lnTo>
                <a:lnTo>
                  <a:pt x="20065" y="12828"/>
                </a:lnTo>
                <a:cubicBezTo>
                  <a:pt x="20065" y="15596"/>
                  <a:pt x="17489" y="18155"/>
                  <a:pt x="14721" y="18155"/>
                </a:cubicBezTo>
                <a:lnTo>
                  <a:pt x="13059" y="18155"/>
                </a:lnTo>
                <a:cubicBezTo>
                  <a:pt x="10291" y="18155"/>
                  <a:pt x="7715" y="15596"/>
                  <a:pt x="7715" y="12828"/>
                </a:cubicBez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61800" y="2467800"/>
            <a:ext cx="4839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imes New Roman"/>
              </a:rPr>
              <a:t>What i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imes New Roman"/>
              </a:rPr>
              <a:t>condensation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36ED-2AB6-4217-8D19-F8FB7954807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219320" y="1676520"/>
            <a:ext cx="7315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A large violent storm accompanied by strong winds and, usually, heavy rain.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0CCE-16BB-4388-A725-8E752A1D241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523880" y="1752480"/>
            <a:ext cx="594360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ate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yc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1302-76F8-4331-BDFE-B8F97E425ADF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>
            <a:hlinkClick r:id="rId2" action="ppaction://hlinksldjump"/>
          </p:cNvPr>
          <p:cNvSpPr/>
          <p:nvPr/>
        </p:nvSpPr>
        <p:spPr>
          <a:xfrm>
            <a:off x="838080" y="5410080"/>
            <a:ext cx="1143000" cy="838440"/>
          </a:xfrm>
          <a:custGeom>
            <a:avLst/>
            <a:gdLst>
              <a:gd name="textAreaLeft" fmla="*/ 54360 w 1143000"/>
              <a:gd name="textAreaRight" fmla="*/ 1088640 w 11430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9443" h="21600">
                <a:moveTo>
                  <a:pt x="0" y="0"/>
                </a:moveTo>
                <a:lnTo>
                  <a:pt x="29443" y="0"/>
                </a:lnTo>
                <a:lnTo>
                  <a:pt x="29443" y="21600"/>
                </a:lnTo>
                <a:lnTo>
                  <a:pt x="0" y="21600"/>
                </a:lnTo>
                <a:close/>
              </a:path>
              <a:path fill="lightenLess" w="29443" h="21600">
                <a:moveTo>
                  <a:pt x="0" y="0"/>
                </a:moveTo>
                <a:lnTo>
                  <a:pt x="29443" y="0"/>
                </a:lnTo>
                <a:lnTo>
                  <a:pt x="28043" y="1400"/>
                </a:lnTo>
                <a:lnTo>
                  <a:pt x="1400" y="1400"/>
                </a:lnTo>
                <a:close/>
              </a:path>
              <a:path fill="darken" w="29443" h="21600">
                <a:moveTo>
                  <a:pt x="29443" y="0"/>
                </a:moveTo>
                <a:lnTo>
                  <a:pt x="29443" y="21600"/>
                </a:lnTo>
                <a:lnTo>
                  <a:pt x="28043" y="20200"/>
                </a:lnTo>
                <a:lnTo>
                  <a:pt x="28043" y="1400"/>
                </a:lnTo>
                <a:close/>
              </a:path>
              <a:path fill="darkenLess" w="29443" h="21600">
                <a:moveTo>
                  <a:pt x="29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3" y="20200"/>
                </a:lnTo>
                <a:close/>
              </a:path>
              <a:path fill="lighten" w="29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3" h="21600">
                <a:moveTo>
                  <a:pt x="7715" y="7493"/>
                </a:moveTo>
                <a:lnTo>
                  <a:pt x="11222" y="7493"/>
                </a:lnTo>
                <a:lnTo>
                  <a:pt x="11222" y="12828"/>
                </a:lnTo>
                <a:cubicBezTo>
                  <a:pt x="11222" y="13751"/>
                  <a:pt x="12023" y="14482"/>
                  <a:pt x="13059" y="14482"/>
                </a:cubicBezTo>
                <a:lnTo>
                  <a:pt x="14721" y="14482"/>
                </a:lnTo>
                <a:cubicBezTo>
                  <a:pt x="15757" y="14482"/>
                  <a:pt x="16558" y="13751"/>
                  <a:pt x="16558" y="12828"/>
                </a:cubicBezTo>
                <a:lnTo>
                  <a:pt x="16558" y="7493"/>
                </a:lnTo>
                <a:lnTo>
                  <a:pt x="14721" y="7493"/>
                </a:lnTo>
                <a:lnTo>
                  <a:pt x="18229" y="3985"/>
                </a:lnTo>
                <a:lnTo>
                  <a:pt x="21902" y="7493"/>
                </a:lnTo>
                <a:lnTo>
                  <a:pt x="20065" y="7493"/>
                </a:lnTo>
                <a:lnTo>
                  <a:pt x="20065" y="12828"/>
                </a:lnTo>
                <a:cubicBezTo>
                  <a:pt x="20065" y="15596"/>
                  <a:pt x="17489" y="18155"/>
                  <a:pt x="14721" y="18155"/>
                </a:cubicBezTo>
                <a:lnTo>
                  <a:pt x="13059" y="18155"/>
                </a:lnTo>
                <a:cubicBezTo>
                  <a:pt x="10291" y="18155"/>
                  <a:pt x="7715" y="15596"/>
                  <a:pt x="7715" y="12828"/>
                </a:cubicBez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0920" y="2926440"/>
            <a:ext cx="70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imes New Roman"/>
              </a:rPr>
              <a:t>What is a hurricane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5AB9-88B9-4306-ADA8-6BD98678230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14400" y="1295280"/>
            <a:ext cx="73152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A storm that produces lightning and thunder and often heavy rain and strong winds.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1F25-78A8-4DED-953F-6FED6C3D280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>
            <a:hlinkClick r:id="rId2" action="ppaction://hlinksldjump"/>
          </p:cNvPr>
          <p:cNvSpPr/>
          <p:nvPr/>
        </p:nvSpPr>
        <p:spPr>
          <a:xfrm>
            <a:off x="838080" y="5410080"/>
            <a:ext cx="1143000" cy="838440"/>
          </a:xfrm>
          <a:custGeom>
            <a:avLst/>
            <a:gdLst>
              <a:gd name="textAreaLeft" fmla="*/ 54360 w 1143000"/>
              <a:gd name="textAreaRight" fmla="*/ 1088640 w 11430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9443" h="21600">
                <a:moveTo>
                  <a:pt x="0" y="0"/>
                </a:moveTo>
                <a:lnTo>
                  <a:pt x="29443" y="0"/>
                </a:lnTo>
                <a:lnTo>
                  <a:pt x="29443" y="21600"/>
                </a:lnTo>
                <a:lnTo>
                  <a:pt x="0" y="21600"/>
                </a:lnTo>
                <a:close/>
              </a:path>
              <a:path fill="lightenLess" w="29443" h="21600">
                <a:moveTo>
                  <a:pt x="0" y="0"/>
                </a:moveTo>
                <a:lnTo>
                  <a:pt x="29443" y="0"/>
                </a:lnTo>
                <a:lnTo>
                  <a:pt x="28043" y="1400"/>
                </a:lnTo>
                <a:lnTo>
                  <a:pt x="1400" y="1400"/>
                </a:lnTo>
                <a:close/>
              </a:path>
              <a:path fill="darken" w="29443" h="21600">
                <a:moveTo>
                  <a:pt x="29443" y="0"/>
                </a:moveTo>
                <a:lnTo>
                  <a:pt x="29443" y="21600"/>
                </a:lnTo>
                <a:lnTo>
                  <a:pt x="28043" y="20200"/>
                </a:lnTo>
                <a:lnTo>
                  <a:pt x="28043" y="1400"/>
                </a:lnTo>
                <a:close/>
              </a:path>
              <a:path fill="darkenLess" w="29443" h="21600">
                <a:moveTo>
                  <a:pt x="29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3" y="20200"/>
                </a:lnTo>
                <a:close/>
              </a:path>
              <a:path fill="lighten" w="29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3" h="21600">
                <a:moveTo>
                  <a:pt x="7715" y="7493"/>
                </a:moveTo>
                <a:lnTo>
                  <a:pt x="11222" y="7493"/>
                </a:lnTo>
                <a:lnTo>
                  <a:pt x="11222" y="12828"/>
                </a:lnTo>
                <a:cubicBezTo>
                  <a:pt x="11222" y="13751"/>
                  <a:pt x="12023" y="14482"/>
                  <a:pt x="13059" y="14482"/>
                </a:cubicBezTo>
                <a:lnTo>
                  <a:pt x="14721" y="14482"/>
                </a:lnTo>
                <a:cubicBezTo>
                  <a:pt x="15757" y="14482"/>
                  <a:pt x="16558" y="13751"/>
                  <a:pt x="16558" y="12828"/>
                </a:cubicBezTo>
                <a:lnTo>
                  <a:pt x="16558" y="7493"/>
                </a:lnTo>
                <a:lnTo>
                  <a:pt x="14721" y="7493"/>
                </a:lnTo>
                <a:lnTo>
                  <a:pt x="18229" y="3985"/>
                </a:lnTo>
                <a:lnTo>
                  <a:pt x="21902" y="7493"/>
                </a:lnTo>
                <a:lnTo>
                  <a:pt x="20065" y="7493"/>
                </a:lnTo>
                <a:lnTo>
                  <a:pt x="20065" y="12828"/>
                </a:lnTo>
                <a:cubicBezTo>
                  <a:pt x="20065" y="15596"/>
                  <a:pt x="17489" y="18155"/>
                  <a:pt x="14721" y="18155"/>
                </a:cubicBezTo>
                <a:lnTo>
                  <a:pt x="13059" y="18155"/>
                </a:lnTo>
                <a:cubicBezTo>
                  <a:pt x="10291" y="18155"/>
                  <a:pt x="7715" y="15596"/>
                  <a:pt x="7715" y="12828"/>
                </a:cubicBez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8080" y="2469240"/>
            <a:ext cx="7696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imes New Roman"/>
              </a:rPr>
              <a:t>What is a thunderstorm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A4E5-D0C5-44DB-A7CC-16A03F70953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219320" y="1371600"/>
            <a:ext cx="6476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A violent, funnel-shaped storm of spinning wind.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6AEA-B9FE-4229-A485-7B96404214C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>
            <a:hlinkClick r:id="rId2" action="ppaction://hlinksldjump"/>
          </p:cNvPr>
          <p:cNvSpPr/>
          <p:nvPr/>
        </p:nvSpPr>
        <p:spPr>
          <a:xfrm>
            <a:off x="838080" y="5410080"/>
            <a:ext cx="1143000" cy="838440"/>
          </a:xfrm>
          <a:custGeom>
            <a:avLst/>
            <a:gdLst>
              <a:gd name="textAreaLeft" fmla="*/ 54360 w 1143000"/>
              <a:gd name="textAreaRight" fmla="*/ 1088640 w 11430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9443" h="21600">
                <a:moveTo>
                  <a:pt x="0" y="0"/>
                </a:moveTo>
                <a:lnTo>
                  <a:pt x="29443" y="0"/>
                </a:lnTo>
                <a:lnTo>
                  <a:pt x="29443" y="21600"/>
                </a:lnTo>
                <a:lnTo>
                  <a:pt x="0" y="21600"/>
                </a:lnTo>
                <a:close/>
              </a:path>
              <a:path fill="lightenLess" w="29443" h="21600">
                <a:moveTo>
                  <a:pt x="0" y="0"/>
                </a:moveTo>
                <a:lnTo>
                  <a:pt x="29443" y="0"/>
                </a:lnTo>
                <a:lnTo>
                  <a:pt x="28043" y="1400"/>
                </a:lnTo>
                <a:lnTo>
                  <a:pt x="1400" y="1400"/>
                </a:lnTo>
                <a:close/>
              </a:path>
              <a:path fill="darken" w="29443" h="21600">
                <a:moveTo>
                  <a:pt x="29443" y="0"/>
                </a:moveTo>
                <a:lnTo>
                  <a:pt x="29443" y="21600"/>
                </a:lnTo>
                <a:lnTo>
                  <a:pt x="28043" y="20200"/>
                </a:lnTo>
                <a:lnTo>
                  <a:pt x="28043" y="1400"/>
                </a:lnTo>
                <a:close/>
              </a:path>
              <a:path fill="darkenLess" w="29443" h="21600">
                <a:moveTo>
                  <a:pt x="29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3" y="20200"/>
                </a:lnTo>
                <a:close/>
              </a:path>
              <a:path fill="lighten" w="29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3" h="21600">
                <a:moveTo>
                  <a:pt x="7715" y="7493"/>
                </a:moveTo>
                <a:lnTo>
                  <a:pt x="11222" y="7493"/>
                </a:lnTo>
                <a:lnTo>
                  <a:pt x="11222" y="12828"/>
                </a:lnTo>
                <a:cubicBezTo>
                  <a:pt x="11222" y="13751"/>
                  <a:pt x="12023" y="14482"/>
                  <a:pt x="13059" y="14482"/>
                </a:cubicBezTo>
                <a:lnTo>
                  <a:pt x="14721" y="14482"/>
                </a:lnTo>
                <a:cubicBezTo>
                  <a:pt x="15757" y="14482"/>
                  <a:pt x="16558" y="13751"/>
                  <a:pt x="16558" y="12828"/>
                </a:cubicBezTo>
                <a:lnTo>
                  <a:pt x="16558" y="7493"/>
                </a:lnTo>
                <a:lnTo>
                  <a:pt x="14721" y="7493"/>
                </a:lnTo>
                <a:lnTo>
                  <a:pt x="18229" y="3985"/>
                </a:lnTo>
                <a:lnTo>
                  <a:pt x="21902" y="7493"/>
                </a:lnTo>
                <a:lnTo>
                  <a:pt x="20065" y="7493"/>
                </a:lnTo>
                <a:lnTo>
                  <a:pt x="20065" y="12828"/>
                </a:lnTo>
                <a:cubicBezTo>
                  <a:pt x="20065" y="15596"/>
                  <a:pt x="17489" y="18155"/>
                  <a:pt x="14721" y="18155"/>
                </a:cubicBezTo>
                <a:lnTo>
                  <a:pt x="13059" y="18155"/>
                </a:lnTo>
                <a:cubicBezTo>
                  <a:pt x="10291" y="18155"/>
                  <a:pt x="7715" y="15596"/>
                  <a:pt x="7715" y="12828"/>
                </a:cubicBez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20200" y="2818440"/>
            <a:ext cx="642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imes New Roman"/>
              </a:rPr>
              <a:t>What is a tornado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D00C-939D-4AB0-AD28-5CE84FEE108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762120" y="1219320"/>
            <a:ext cx="73152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Sound that results from the rapid expansion of air along with a lightning strik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FCDC-9602-45C6-B94D-DC8EF16F434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>
            <a:hlinkClick r:id="rId2" action="ppaction://hlinksldjump"/>
          </p:cNvPr>
          <p:cNvSpPr/>
          <p:nvPr/>
        </p:nvSpPr>
        <p:spPr>
          <a:xfrm>
            <a:off x="838080" y="5410080"/>
            <a:ext cx="1143000" cy="838440"/>
          </a:xfrm>
          <a:custGeom>
            <a:avLst/>
            <a:gdLst>
              <a:gd name="textAreaLeft" fmla="*/ 54360 w 1143000"/>
              <a:gd name="textAreaRight" fmla="*/ 1088640 w 11430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9443" h="21600">
                <a:moveTo>
                  <a:pt x="0" y="0"/>
                </a:moveTo>
                <a:lnTo>
                  <a:pt x="29443" y="0"/>
                </a:lnTo>
                <a:lnTo>
                  <a:pt x="29443" y="21600"/>
                </a:lnTo>
                <a:lnTo>
                  <a:pt x="0" y="21600"/>
                </a:lnTo>
                <a:close/>
              </a:path>
              <a:path fill="lightenLess" w="29443" h="21600">
                <a:moveTo>
                  <a:pt x="0" y="0"/>
                </a:moveTo>
                <a:lnTo>
                  <a:pt x="29443" y="0"/>
                </a:lnTo>
                <a:lnTo>
                  <a:pt x="28043" y="1400"/>
                </a:lnTo>
                <a:lnTo>
                  <a:pt x="1400" y="1400"/>
                </a:lnTo>
                <a:close/>
              </a:path>
              <a:path fill="darken" w="29443" h="21600">
                <a:moveTo>
                  <a:pt x="29443" y="0"/>
                </a:moveTo>
                <a:lnTo>
                  <a:pt x="29443" y="21600"/>
                </a:lnTo>
                <a:lnTo>
                  <a:pt x="28043" y="20200"/>
                </a:lnTo>
                <a:lnTo>
                  <a:pt x="28043" y="1400"/>
                </a:lnTo>
                <a:close/>
              </a:path>
              <a:path fill="darkenLess" w="29443" h="21600">
                <a:moveTo>
                  <a:pt x="29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3" y="20200"/>
                </a:lnTo>
                <a:close/>
              </a:path>
              <a:path fill="lighten" w="29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3" h="21600">
                <a:moveTo>
                  <a:pt x="7715" y="7493"/>
                </a:moveTo>
                <a:lnTo>
                  <a:pt x="11222" y="7493"/>
                </a:lnTo>
                <a:lnTo>
                  <a:pt x="11222" y="12828"/>
                </a:lnTo>
                <a:cubicBezTo>
                  <a:pt x="11222" y="13751"/>
                  <a:pt x="12023" y="14482"/>
                  <a:pt x="13059" y="14482"/>
                </a:cubicBezTo>
                <a:lnTo>
                  <a:pt x="14721" y="14482"/>
                </a:lnTo>
                <a:cubicBezTo>
                  <a:pt x="15757" y="14482"/>
                  <a:pt x="16558" y="13751"/>
                  <a:pt x="16558" y="12828"/>
                </a:cubicBezTo>
                <a:lnTo>
                  <a:pt x="16558" y="7493"/>
                </a:lnTo>
                <a:lnTo>
                  <a:pt x="14721" y="7493"/>
                </a:lnTo>
                <a:lnTo>
                  <a:pt x="18229" y="3985"/>
                </a:lnTo>
                <a:lnTo>
                  <a:pt x="21902" y="7493"/>
                </a:lnTo>
                <a:lnTo>
                  <a:pt x="20065" y="7493"/>
                </a:lnTo>
                <a:lnTo>
                  <a:pt x="20065" y="12828"/>
                </a:lnTo>
                <a:cubicBezTo>
                  <a:pt x="20065" y="15596"/>
                  <a:pt x="17489" y="18155"/>
                  <a:pt x="14721" y="18155"/>
                </a:cubicBezTo>
                <a:lnTo>
                  <a:pt x="13059" y="18155"/>
                </a:lnTo>
                <a:cubicBezTo>
                  <a:pt x="10291" y="18155"/>
                  <a:pt x="7715" y="15596"/>
                  <a:pt x="7715" y="12828"/>
                </a:cubicBez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47920" y="2925000"/>
            <a:ext cx="632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What is thunder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F2C6-3A42-4D11-AC1A-1A71BA91624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914400" y="2438280"/>
            <a:ext cx="731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Cumulo-nimbus clouds usually produce thes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CE3F-FEF1-4CF6-86FF-DC65FEF5F21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>
            <a:hlinkClick r:id="rId2" action="ppaction://hlinksldjump"/>
          </p:cNvPr>
          <p:cNvSpPr/>
          <p:nvPr/>
        </p:nvSpPr>
        <p:spPr>
          <a:xfrm>
            <a:off x="838080" y="5410080"/>
            <a:ext cx="1143000" cy="838440"/>
          </a:xfrm>
          <a:custGeom>
            <a:avLst/>
            <a:gdLst>
              <a:gd name="textAreaLeft" fmla="*/ 54360 w 1143000"/>
              <a:gd name="textAreaRight" fmla="*/ 1088640 w 11430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9443" h="21600">
                <a:moveTo>
                  <a:pt x="0" y="0"/>
                </a:moveTo>
                <a:lnTo>
                  <a:pt x="29443" y="0"/>
                </a:lnTo>
                <a:lnTo>
                  <a:pt x="29443" y="21600"/>
                </a:lnTo>
                <a:lnTo>
                  <a:pt x="0" y="21600"/>
                </a:lnTo>
                <a:close/>
              </a:path>
              <a:path fill="lightenLess" w="29443" h="21600">
                <a:moveTo>
                  <a:pt x="0" y="0"/>
                </a:moveTo>
                <a:lnTo>
                  <a:pt x="29443" y="0"/>
                </a:lnTo>
                <a:lnTo>
                  <a:pt x="28043" y="1400"/>
                </a:lnTo>
                <a:lnTo>
                  <a:pt x="1400" y="1400"/>
                </a:lnTo>
                <a:close/>
              </a:path>
              <a:path fill="darken" w="29443" h="21600">
                <a:moveTo>
                  <a:pt x="29443" y="0"/>
                </a:moveTo>
                <a:lnTo>
                  <a:pt x="29443" y="21600"/>
                </a:lnTo>
                <a:lnTo>
                  <a:pt x="28043" y="20200"/>
                </a:lnTo>
                <a:lnTo>
                  <a:pt x="28043" y="1400"/>
                </a:lnTo>
                <a:close/>
              </a:path>
              <a:path fill="darkenLess" w="29443" h="21600">
                <a:moveTo>
                  <a:pt x="29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3" y="20200"/>
                </a:lnTo>
                <a:close/>
              </a:path>
              <a:path fill="lighten" w="29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3" h="21600">
                <a:moveTo>
                  <a:pt x="7715" y="7493"/>
                </a:moveTo>
                <a:lnTo>
                  <a:pt x="11222" y="7493"/>
                </a:lnTo>
                <a:lnTo>
                  <a:pt x="11222" y="12828"/>
                </a:lnTo>
                <a:cubicBezTo>
                  <a:pt x="11222" y="13751"/>
                  <a:pt x="12023" y="14482"/>
                  <a:pt x="13059" y="14482"/>
                </a:cubicBezTo>
                <a:lnTo>
                  <a:pt x="14721" y="14482"/>
                </a:lnTo>
                <a:cubicBezTo>
                  <a:pt x="15757" y="14482"/>
                  <a:pt x="16558" y="13751"/>
                  <a:pt x="16558" y="12828"/>
                </a:cubicBezTo>
                <a:lnTo>
                  <a:pt x="16558" y="7493"/>
                </a:lnTo>
                <a:lnTo>
                  <a:pt x="14721" y="7493"/>
                </a:lnTo>
                <a:lnTo>
                  <a:pt x="18229" y="3985"/>
                </a:lnTo>
                <a:lnTo>
                  <a:pt x="21902" y="7493"/>
                </a:lnTo>
                <a:lnTo>
                  <a:pt x="20065" y="7493"/>
                </a:lnTo>
                <a:lnTo>
                  <a:pt x="20065" y="12828"/>
                </a:lnTo>
                <a:cubicBezTo>
                  <a:pt x="20065" y="15596"/>
                  <a:pt x="17489" y="18155"/>
                  <a:pt x="14721" y="18155"/>
                </a:cubicBezTo>
                <a:lnTo>
                  <a:pt x="13059" y="18155"/>
                </a:lnTo>
                <a:cubicBezTo>
                  <a:pt x="10291" y="18155"/>
                  <a:pt x="7715" y="15596"/>
                  <a:pt x="7715" y="12828"/>
                </a:cubicBez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2469240"/>
            <a:ext cx="7391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imes New Roman"/>
              </a:rPr>
              <a:t>What are thunder storm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9C16-5CD7-492A-A144-623D7B1740D2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14400" y="91440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Fluffy, white clouds with flat bottom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666880" y="3124080"/>
            <a:ext cx="3902040" cy="3121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BFCC-0154-48A8-964C-11E2E149A128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990720" y="2590920"/>
            <a:ext cx="716256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orm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58C0-DADF-4ECE-8FB0-2EEA98DA17AE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>
            <a:hlinkClick r:id="rId2" action="ppaction://hlinksldjump"/>
          </p:cNvPr>
          <p:cNvSpPr/>
          <p:nvPr/>
        </p:nvSpPr>
        <p:spPr>
          <a:xfrm>
            <a:off x="838080" y="5410080"/>
            <a:ext cx="1143000" cy="838440"/>
          </a:xfrm>
          <a:custGeom>
            <a:avLst/>
            <a:gdLst>
              <a:gd name="textAreaLeft" fmla="*/ 54360 w 1143000"/>
              <a:gd name="textAreaRight" fmla="*/ 1088640 w 11430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9443" h="21600">
                <a:moveTo>
                  <a:pt x="0" y="0"/>
                </a:moveTo>
                <a:lnTo>
                  <a:pt x="29443" y="0"/>
                </a:lnTo>
                <a:lnTo>
                  <a:pt x="29443" y="21600"/>
                </a:lnTo>
                <a:lnTo>
                  <a:pt x="0" y="21600"/>
                </a:lnTo>
                <a:close/>
              </a:path>
              <a:path fill="lightenLess" w="29443" h="21600">
                <a:moveTo>
                  <a:pt x="0" y="0"/>
                </a:moveTo>
                <a:lnTo>
                  <a:pt x="29443" y="0"/>
                </a:lnTo>
                <a:lnTo>
                  <a:pt x="28043" y="1400"/>
                </a:lnTo>
                <a:lnTo>
                  <a:pt x="1400" y="1400"/>
                </a:lnTo>
                <a:close/>
              </a:path>
              <a:path fill="darken" w="29443" h="21600">
                <a:moveTo>
                  <a:pt x="29443" y="0"/>
                </a:moveTo>
                <a:lnTo>
                  <a:pt x="29443" y="21600"/>
                </a:lnTo>
                <a:lnTo>
                  <a:pt x="28043" y="20200"/>
                </a:lnTo>
                <a:lnTo>
                  <a:pt x="28043" y="1400"/>
                </a:lnTo>
                <a:close/>
              </a:path>
              <a:path fill="darkenLess" w="29443" h="21600">
                <a:moveTo>
                  <a:pt x="29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3" y="20200"/>
                </a:lnTo>
                <a:close/>
              </a:path>
              <a:path fill="lighten" w="29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3" h="21600">
                <a:moveTo>
                  <a:pt x="7715" y="7493"/>
                </a:moveTo>
                <a:lnTo>
                  <a:pt x="11222" y="7493"/>
                </a:lnTo>
                <a:lnTo>
                  <a:pt x="11222" y="12828"/>
                </a:lnTo>
                <a:cubicBezTo>
                  <a:pt x="11222" y="13751"/>
                  <a:pt x="12023" y="14482"/>
                  <a:pt x="13059" y="14482"/>
                </a:cubicBezTo>
                <a:lnTo>
                  <a:pt x="14721" y="14482"/>
                </a:lnTo>
                <a:cubicBezTo>
                  <a:pt x="15757" y="14482"/>
                  <a:pt x="16558" y="13751"/>
                  <a:pt x="16558" y="12828"/>
                </a:cubicBezTo>
                <a:lnTo>
                  <a:pt x="16558" y="7493"/>
                </a:lnTo>
                <a:lnTo>
                  <a:pt x="14721" y="7493"/>
                </a:lnTo>
                <a:lnTo>
                  <a:pt x="18229" y="3985"/>
                </a:lnTo>
                <a:lnTo>
                  <a:pt x="21902" y="7493"/>
                </a:lnTo>
                <a:lnTo>
                  <a:pt x="20065" y="7493"/>
                </a:lnTo>
                <a:lnTo>
                  <a:pt x="20065" y="12828"/>
                </a:lnTo>
                <a:cubicBezTo>
                  <a:pt x="20065" y="15596"/>
                  <a:pt x="17489" y="18155"/>
                  <a:pt x="14721" y="18155"/>
                </a:cubicBezTo>
                <a:lnTo>
                  <a:pt x="13059" y="18155"/>
                </a:lnTo>
                <a:cubicBezTo>
                  <a:pt x="10291" y="18155"/>
                  <a:pt x="7715" y="15596"/>
                  <a:pt x="7715" y="12828"/>
                </a:cubicBez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2469240"/>
            <a:ext cx="7620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imes New Roman"/>
              </a:rPr>
              <a:t>What are cumulus cloud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E4AC-A976-4924-BF9E-31B803820C2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85800" y="914400"/>
            <a:ext cx="784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Feathery clouds associated with fair weathe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191120" y="2895480"/>
            <a:ext cx="4424400" cy="3283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435A-ADDB-497F-8E40-4A5B84E4467E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>
            <a:hlinkClick r:id="rId2" action="ppaction://hlinksldjump"/>
          </p:cNvPr>
          <p:cNvSpPr/>
          <p:nvPr/>
        </p:nvSpPr>
        <p:spPr>
          <a:xfrm>
            <a:off x="838080" y="5410080"/>
            <a:ext cx="1143000" cy="838440"/>
          </a:xfrm>
          <a:custGeom>
            <a:avLst/>
            <a:gdLst>
              <a:gd name="textAreaLeft" fmla="*/ 54360 w 1143000"/>
              <a:gd name="textAreaRight" fmla="*/ 1088640 w 11430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9443" h="21600">
                <a:moveTo>
                  <a:pt x="0" y="0"/>
                </a:moveTo>
                <a:lnTo>
                  <a:pt x="29443" y="0"/>
                </a:lnTo>
                <a:lnTo>
                  <a:pt x="29443" y="21600"/>
                </a:lnTo>
                <a:lnTo>
                  <a:pt x="0" y="21600"/>
                </a:lnTo>
                <a:close/>
              </a:path>
              <a:path fill="lightenLess" w="29443" h="21600">
                <a:moveTo>
                  <a:pt x="0" y="0"/>
                </a:moveTo>
                <a:lnTo>
                  <a:pt x="29443" y="0"/>
                </a:lnTo>
                <a:lnTo>
                  <a:pt x="28043" y="1400"/>
                </a:lnTo>
                <a:lnTo>
                  <a:pt x="1400" y="1400"/>
                </a:lnTo>
                <a:close/>
              </a:path>
              <a:path fill="darken" w="29443" h="21600">
                <a:moveTo>
                  <a:pt x="29443" y="0"/>
                </a:moveTo>
                <a:lnTo>
                  <a:pt x="29443" y="21600"/>
                </a:lnTo>
                <a:lnTo>
                  <a:pt x="28043" y="20200"/>
                </a:lnTo>
                <a:lnTo>
                  <a:pt x="28043" y="1400"/>
                </a:lnTo>
                <a:close/>
              </a:path>
              <a:path fill="darkenLess" w="29443" h="21600">
                <a:moveTo>
                  <a:pt x="29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3" y="20200"/>
                </a:lnTo>
                <a:close/>
              </a:path>
              <a:path fill="lighten" w="29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3" h="21600">
                <a:moveTo>
                  <a:pt x="7715" y="7493"/>
                </a:moveTo>
                <a:lnTo>
                  <a:pt x="11222" y="7493"/>
                </a:lnTo>
                <a:lnTo>
                  <a:pt x="11222" y="12828"/>
                </a:lnTo>
                <a:cubicBezTo>
                  <a:pt x="11222" y="13751"/>
                  <a:pt x="12023" y="14482"/>
                  <a:pt x="13059" y="14482"/>
                </a:cubicBezTo>
                <a:lnTo>
                  <a:pt x="14721" y="14482"/>
                </a:lnTo>
                <a:cubicBezTo>
                  <a:pt x="15757" y="14482"/>
                  <a:pt x="16558" y="13751"/>
                  <a:pt x="16558" y="12828"/>
                </a:cubicBezTo>
                <a:lnTo>
                  <a:pt x="16558" y="7493"/>
                </a:lnTo>
                <a:lnTo>
                  <a:pt x="14721" y="7493"/>
                </a:lnTo>
                <a:lnTo>
                  <a:pt x="18229" y="3985"/>
                </a:lnTo>
                <a:lnTo>
                  <a:pt x="21902" y="7493"/>
                </a:lnTo>
                <a:lnTo>
                  <a:pt x="20065" y="7493"/>
                </a:lnTo>
                <a:lnTo>
                  <a:pt x="20065" y="12828"/>
                </a:lnTo>
                <a:cubicBezTo>
                  <a:pt x="20065" y="15596"/>
                  <a:pt x="17489" y="18155"/>
                  <a:pt x="14721" y="18155"/>
                </a:cubicBezTo>
                <a:lnTo>
                  <a:pt x="13059" y="18155"/>
                </a:lnTo>
                <a:cubicBezTo>
                  <a:pt x="10291" y="18155"/>
                  <a:pt x="7715" y="15596"/>
                  <a:pt x="7715" y="12828"/>
                </a:cubicBez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246924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imes New Roman"/>
              </a:rPr>
              <a:t>What are cirrus cloud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A6BF-9340-4C13-94EB-1C45D8094F23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990720" y="1219320"/>
            <a:ext cx="73152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These clouds are smooth gray clouds that cover the whole sky and usually bring a light rain or drizzl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C842-B2C5-4241-A560-EC958513EC66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>
            <a:hlinkClick r:id="rId2" action="ppaction://hlinksldjump"/>
          </p:cNvPr>
          <p:cNvSpPr/>
          <p:nvPr/>
        </p:nvSpPr>
        <p:spPr>
          <a:xfrm>
            <a:off x="838080" y="5410080"/>
            <a:ext cx="1143000" cy="838440"/>
          </a:xfrm>
          <a:custGeom>
            <a:avLst/>
            <a:gdLst>
              <a:gd name="textAreaLeft" fmla="*/ 54360 w 1143000"/>
              <a:gd name="textAreaRight" fmla="*/ 1088640 w 11430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9443" h="21600">
                <a:moveTo>
                  <a:pt x="0" y="0"/>
                </a:moveTo>
                <a:lnTo>
                  <a:pt x="29443" y="0"/>
                </a:lnTo>
                <a:lnTo>
                  <a:pt x="29443" y="21600"/>
                </a:lnTo>
                <a:lnTo>
                  <a:pt x="0" y="21600"/>
                </a:lnTo>
                <a:close/>
              </a:path>
              <a:path fill="lightenLess" w="29443" h="21600">
                <a:moveTo>
                  <a:pt x="0" y="0"/>
                </a:moveTo>
                <a:lnTo>
                  <a:pt x="29443" y="0"/>
                </a:lnTo>
                <a:lnTo>
                  <a:pt x="28043" y="1400"/>
                </a:lnTo>
                <a:lnTo>
                  <a:pt x="1400" y="1400"/>
                </a:lnTo>
                <a:close/>
              </a:path>
              <a:path fill="darken" w="29443" h="21600">
                <a:moveTo>
                  <a:pt x="29443" y="0"/>
                </a:moveTo>
                <a:lnTo>
                  <a:pt x="29443" y="21600"/>
                </a:lnTo>
                <a:lnTo>
                  <a:pt x="28043" y="20200"/>
                </a:lnTo>
                <a:lnTo>
                  <a:pt x="28043" y="1400"/>
                </a:lnTo>
                <a:close/>
              </a:path>
              <a:path fill="darkenLess" w="29443" h="21600">
                <a:moveTo>
                  <a:pt x="29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3" y="20200"/>
                </a:lnTo>
                <a:close/>
              </a:path>
              <a:path fill="lighten" w="29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3" h="21600">
                <a:moveTo>
                  <a:pt x="7715" y="7493"/>
                </a:moveTo>
                <a:lnTo>
                  <a:pt x="11222" y="7493"/>
                </a:lnTo>
                <a:lnTo>
                  <a:pt x="11222" y="12828"/>
                </a:lnTo>
                <a:cubicBezTo>
                  <a:pt x="11222" y="13751"/>
                  <a:pt x="12023" y="14482"/>
                  <a:pt x="13059" y="14482"/>
                </a:cubicBezTo>
                <a:lnTo>
                  <a:pt x="14721" y="14482"/>
                </a:lnTo>
                <a:cubicBezTo>
                  <a:pt x="15757" y="14482"/>
                  <a:pt x="16558" y="13751"/>
                  <a:pt x="16558" y="12828"/>
                </a:cubicBezTo>
                <a:lnTo>
                  <a:pt x="16558" y="7493"/>
                </a:lnTo>
                <a:lnTo>
                  <a:pt x="14721" y="7493"/>
                </a:lnTo>
                <a:lnTo>
                  <a:pt x="18229" y="3985"/>
                </a:lnTo>
                <a:lnTo>
                  <a:pt x="21902" y="7493"/>
                </a:lnTo>
                <a:lnTo>
                  <a:pt x="20065" y="7493"/>
                </a:lnTo>
                <a:lnTo>
                  <a:pt x="20065" y="12828"/>
                </a:lnTo>
                <a:cubicBezTo>
                  <a:pt x="20065" y="15596"/>
                  <a:pt x="17489" y="18155"/>
                  <a:pt x="14721" y="18155"/>
                </a:cubicBezTo>
                <a:lnTo>
                  <a:pt x="13059" y="18155"/>
                </a:lnTo>
                <a:cubicBezTo>
                  <a:pt x="10291" y="18155"/>
                  <a:pt x="7715" y="15596"/>
                  <a:pt x="7715" y="12828"/>
                </a:cubicBez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4400" y="2469240"/>
            <a:ext cx="754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imes New Roman"/>
              </a:rPr>
              <a:t>What are stratus cloud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A656-4223-4390-8864-479A6D331F01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838080" y="914400"/>
            <a:ext cx="7315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Although these are fair weather clouds, they often indicate that rain or snow will fall within several hour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2E46-7191-4228-AA49-898CC8B6ECA8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>
            <a:hlinkClick r:id="rId2" action="ppaction://hlinksldjump"/>
          </p:cNvPr>
          <p:cNvSpPr/>
          <p:nvPr/>
        </p:nvSpPr>
        <p:spPr>
          <a:xfrm>
            <a:off x="838080" y="5410080"/>
            <a:ext cx="1143000" cy="838440"/>
          </a:xfrm>
          <a:custGeom>
            <a:avLst/>
            <a:gdLst>
              <a:gd name="textAreaLeft" fmla="*/ 54360 w 1143000"/>
              <a:gd name="textAreaRight" fmla="*/ 1088640 w 11430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9443" h="21600">
                <a:moveTo>
                  <a:pt x="0" y="0"/>
                </a:moveTo>
                <a:lnTo>
                  <a:pt x="29443" y="0"/>
                </a:lnTo>
                <a:lnTo>
                  <a:pt x="29443" y="21600"/>
                </a:lnTo>
                <a:lnTo>
                  <a:pt x="0" y="21600"/>
                </a:lnTo>
                <a:close/>
              </a:path>
              <a:path fill="lightenLess" w="29443" h="21600">
                <a:moveTo>
                  <a:pt x="0" y="0"/>
                </a:moveTo>
                <a:lnTo>
                  <a:pt x="29443" y="0"/>
                </a:lnTo>
                <a:lnTo>
                  <a:pt x="28043" y="1400"/>
                </a:lnTo>
                <a:lnTo>
                  <a:pt x="1400" y="1400"/>
                </a:lnTo>
                <a:close/>
              </a:path>
              <a:path fill="darken" w="29443" h="21600">
                <a:moveTo>
                  <a:pt x="29443" y="0"/>
                </a:moveTo>
                <a:lnTo>
                  <a:pt x="29443" y="21600"/>
                </a:lnTo>
                <a:lnTo>
                  <a:pt x="28043" y="20200"/>
                </a:lnTo>
                <a:lnTo>
                  <a:pt x="28043" y="1400"/>
                </a:lnTo>
                <a:close/>
              </a:path>
              <a:path fill="darkenLess" w="29443" h="21600">
                <a:moveTo>
                  <a:pt x="29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3" y="20200"/>
                </a:lnTo>
                <a:close/>
              </a:path>
              <a:path fill="lighten" w="29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3" h="21600">
                <a:moveTo>
                  <a:pt x="7715" y="7493"/>
                </a:moveTo>
                <a:lnTo>
                  <a:pt x="11222" y="7493"/>
                </a:lnTo>
                <a:lnTo>
                  <a:pt x="11222" y="12828"/>
                </a:lnTo>
                <a:cubicBezTo>
                  <a:pt x="11222" y="13751"/>
                  <a:pt x="12023" y="14482"/>
                  <a:pt x="13059" y="14482"/>
                </a:cubicBezTo>
                <a:lnTo>
                  <a:pt x="14721" y="14482"/>
                </a:lnTo>
                <a:cubicBezTo>
                  <a:pt x="15757" y="14482"/>
                  <a:pt x="16558" y="13751"/>
                  <a:pt x="16558" y="12828"/>
                </a:cubicBezTo>
                <a:lnTo>
                  <a:pt x="16558" y="7493"/>
                </a:lnTo>
                <a:lnTo>
                  <a:pt x="14721" y="7493"/>
                </a:lnTo>
                <a:lnTo>
                  <a:pt x="18229" y="3985"/>
                </a:lnTo>
                <a:lnTo>
                  <a:pt x="21902" y="7493"/>
                </a:lnTo>
                <a:lnTo>
                  <a:pt x="20065" y="7493"/>
                </a:lnTo>
                <a:lnTo>
                  <a:pt x="20065" y="12828"/>
                </a:lnTo>
                <a:cubicBezTo>
                  <a:pt x="20065" y="15596"/>
                  <a:pt x="17489" y="18155"/>
                  <a:pt x="14721" y="18155"/>
                </a:cubicBezTo>
                <a:lnTo>
                  <a:pt x="13059" y="18155"/>
                </a:lnTo>
                <a:cubicBezTo>
                  <a:pt x="10291" y="18155"/>
                  <a:pt x="7715" y="15596"/>
                  <a:pt x="7715" y="12828"/>
                </a:cubicBez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2469240"/>
            <a:ext cx="7764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imes New Roman"/>
              </a:rPr>
              <a:t>What are cirrus cloud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460B-8538-4CB9-A3FA-D6C399A82AA5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143000" y="838080"/>
            <a:ext cx="7315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These large clouds with dark bottoms often produce thunderstorm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276720" y="3276720"/>
            <a:ext cx="2879640" cy="3124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329C-C6B1-4CCA-82B9-27C2503234FB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>
            <a:hlinkClick r:id="rId2" action="ppaction://hlinksldjump"/>
          </p:cNvPr>
          <p:cNvSpPr/>
          <p:nvPr/>
        </p:nvSpPr>
        <p:spPr>
          <a:xfrm>
            <a:off x="838080" y="5410080"/>
            <a:ext cx="1143000" cy="838440"/>
          </a:xfrm>
          <a:custGeom>
            <a:avLst/>
            <a:gdLst>
              <a:gd name="textAreaLeft" fmla="*/ 54360 w 1143000"/>
              <a:gd name="textAreaRight" fmla="*/ 1088640 w 11430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9443" h="21600">
                <a:moveTo>
                  <a:pt x="0" y="0"/>
                </a:moveTo>
                <a:lnTo>
                  <a:pt x="29443" y="0"/>
                </a:lnTo>
                <a:lnTo>
                  <a:pt x="29443" y="21600"/>
                </a:lnTo>
                <a:lnTo>
                  <a:pt x="0" y="21600"/>
                </a:lnTo>
                <a:close/>
              </a:path>
              <a:path fill="lightenLess" w="29443" h="21600">
                <a:moveTo>
                  <a:pt x="0" y="0"/>
                </a:moveTo>
                <a:lnTo>
                  <a:pt x="29443" y="0"/>
                </a:lnTo>
                <a:lnTo>
                  <a:pt x="28043" y="1400"/>
                </a:lnTo>
                <a:lnTo>
                  <a:pt x="1400" y="1400"/>
                </a:lnTo>
                <a:close/>
              </a:path>
              <a:path fill="darken" w="29443" h="21600">
                <a:moveTo>
                  <a:pt x="29443" y="0"/>
                </a:moveTo>
                <a:lnTo>
                  <a:pt x="29443" y="21600"/>
                </a:lnTo>
                <a:lnTo>
                  <a:pt x="28043" y="20200"/>
                </a:lnTo>
                <a:lnTo>
                  <a:pt x="28043" y="1400"/>
                </a:lnTo>
                <a:close/>
              </a:path>
              <a:path fill="darkenLess" w="29443" h="21600">
                <a:moveTo>
                  <a:pt x="29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3" y="20200"/>
                </a:lnTo>
                <a:close/>
              </a:path>
              <a:path fill="lighten" w="29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3" h="21600">
                <a:moveTo>
                  <a:pt x="7715" y="7493"/>
                </a:moveTo>
                <a:lnTo>
                  <a:pt x="11222" y="7493"/>
                </a:lnTo>
                <a:lnTo>
                  <a:pt x="11222" y="12828"/>
                </a:lnTo>
                <a:cubicBezTo>
                  <a:pt x="11222" y="13751"/>
                  <a:pt x="12023" y="14482"/>
                  <a:pt x="13059" y="14482"/>
                </a:cubicBezTo>
                <a:lnTo>
                  <a:pt x="14721" y="14482"/>
                </a:lnTo>
                <a:cubicBezTo>
                  <a:pt x="15757" y="14482"/>
                  <a:pt x="16558" y="13751"/>
                  <a:pt x="16558" y="12828"/>
                </a:cubicBezTo>
                <a:lnTo>
                  <a:pt x="16558" y="7493"/>
                </a:lnTo>
                <a:lnTo>
                  <a:pt x="14721" y="7493"/>
                </a:lnTo>
                <a:lnTo>
                  <a:pt x="18229" y="3985"/>
                </a:lnTo>
                <a:lnTo>
                  <a:pt x="21902" y="7493"/>
                </a:lnTo>
                <a:lnTo>
                  <a:pt x="20065" y="7493"/>
                </a:lnTo>
                <a:lnTo>
                  <a:pt x="20065" y="12828"/>
                </a:lnTo>
                <a:cubicBezTo>
                  <a:pt x="20065" y="15596"/>
                  <a:pt x="17489" y="18155"/>
                  <a:pt x="14721" y="18155"/>
                </a:cubicBezTo>
                <a:lnTo>
                  <a:pt x="13059" y="18155"/>
                </a:lnTo>
                <a:cubicBezTo>
                  <a:pt x="10291" y="18155"/>
                  <a:pt x="7715" y="15596"/>
                  <a:pt x="7715" y="12828"/>
                </a:cubicBez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1828080"/>
            <a:ext cx="7162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imes New Roman"/>
              </a:rPr>
              <a:t>What are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imes New Roman"/>
              </a:rPr>
              <a:t>cumulo-nimbus cloud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AD2C-7A15-4C0C-A5CC-5D3CF3F3AA34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914400" y="1523880"/>
            <a:ext cx="7315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A large body of air that has about the same temperature, air pressure, and moisture through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0FEF-CC90-498E-91A2-7CCB82477ED7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447920" y="2590920"/>
            <a:ext cx="601956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loud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4815-3E9F-456A-A0D4-9E3732237B0D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>
            <a:hlinkClick r:id="rId2" action="ppaction://hlinksldjump"/>
          </p:cNvPr>
          <p:cNvSpPr/>
          <p:nvPr/>
        </p:nvSpPr>
        <p:spPr>
          <a:xfrm>
            <a:off x="838080" y="5410080"/>
            <a:ext cx="1143000" cy="838440"/>
          </a:xfrm>
          <a:custGeom>
            <a:avLst/>
            <a:gdLst>
              <a:gd name="textAreaLeft" fmla="*/ 54360 w 1143000"/>
              <a:gd name="textAreaRight" fmla="*/ 1088640 w 11430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9443" h="21600">
                <a:moveTo>
                  <a:pt x="0" y="0"/>
                </a:moveTo>
                <a:lnTo>
                  <a:pt x="29443" y="0"/>
                </a:lnTo>
                <a:lnTo>
                  <a:pt x="29443" y="21600"/>
                </a:lnTo>
                <a:lnTo>
                  <a:pt x="0" y="21600"/>
                </a:lnTo>
                <a:close/>
              </a:path>
              <a:path fill="lightenLess" w="29443" h="21600">
                <a:moveTo>
                  <a:pt x="0" y="0"/>
                </a:moveTo>
                <a:lnTo>
                  <a:pt x="29443" y="0"/>
                </a:lnTo>
                <a:lnTo>
                  <a:pt x="28043" y="1400"/>
                </a:lnTo>
                <a:lnTo>
                  <a:pt x="1400" y="1400"/>
                </a:lnTo>
                <a:close/>
              </a:path>
              <a:path fill="darken" w="29443" h="21600">
                <a:moveTo>
                  <a:pt x="29443" y="0"/>
                </a:moveTo>
                <a:lnTo>
                  <a:pt x="29443" y="21600"/>
                </a:lnTo>
                <a:lnTo>
                  <a:pt x="28043" y="20200"/>
                </a:lnTo>
                <a:lnTo>
                  <a:pt x="28043" y="1400"/>
                </a:lnTo>
                <a:close/>
              </a:path>
              <a:path fill="darkenLess" w="29443" h="21600">
                <a:moveTo>
                  <a:pt x="29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3" y="20200"/>
                </a:lnTo>
                <a:close/>
              </a:path>
              <a:path fill="lighten" w="29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3" h="21600">
                <a:moveTo>
                  <a:pt x="7715" y="7493"/>
                </a:moveTo>
                <a:lnTo>
                  <a:pt x="11222" y="7493"/>
                </a:lnTo>
                <a:lnTo>
                  <a:pt x="11222" y="12828"/>
                </a:lnTo>
                <a:cubicBezTo>
                  <a:pt x="11222" y="13751"/>
                  <a:pt x="12023" y="14482"/>
                  <a:pt x="13059" y="14482"/>
                </a:cubicBezTo>
                <a:lnTo>
                  <a:pt x="14721" y="14482"/>
                </a:lnTo>
                <a:cubicBezTo>
                  <a:pt x="15757" y="14482"/>
                  <a:pt x="16558" y="13751"/>
                  <a:pt x="16558" y="12828"/>
                </a:cubicBezTo>
                <a:lnTo>
                  <a:pt x="16558" y="7493"/>
                </a:lnTo>
                <a:lnTo>
                  <a:pt x="14721" y="7493"/>
                </a:lnTo>
                <a:lnTo>
                  <a:pt x="18229" y="3985"/>
                </a:lnTo>
                <a:lnTo>
                  <a:pt x="21902" y="7493"/>
                </a:lnTo>
                <a:lnTo>
                  <a:pt x="20065" y="7493"/>
                </a:lnTo>
                <a:lnTo>
                  <a:pt x="20065" y="12828"/>
                </a:lnTo>
                <a:cubicBezTo>
                  <a:pt x="20065" y="15596"/>
                  <a:pt x="17489" y="18155"/>
                  <a:pt x="14721" y="18155"/>
                </a:cubicBezTo>
                <a:lnTo>
                  <a:pt x="13059" y="18155"/>
                </a:lnTo>
                <a:cubicBezTo>
                  <a:pt x="10291" y="18155"/>
                  <a:pt x="7715" y="15596"/>
                  <a:pt x="7715" y="12828"/>
                </a:cubicBez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92240" y="2926440"/>
            <a:ext cx="7000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imes New Roman"/>
              </a:rPr>
              <a:t>What is an air mas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A09F-0FF1-4D94-8965-23D0BDDEA344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066680" y="1676520"/>
            <a:ext cx="7315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The leading edge of a cold air mass that forms as the cold air mass moves into a warm air mass.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4700-4509-4256-A0FB-35C914A0764C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>
            <a:hlinkClick r:id="rId2" action="ppaction://hlinksldjump"/>
          </p:cNvPr>
          <p:cNvSpPr/>
          <p:nvPr/>
        </p:nvSpPr>
        <p:spPr>
          <a:xfrm>
            <a:off x="838080" y="5410080"/>
            <a:ext cx="1143000" cy="838440"/>
          </a:xfrm>
          <a:custGeom>
            <a:avLst/>
            <a:gdLst>
              <a:gd name="textAreaLeft" fmla="*/ 54360 w 1143000"/>
              <a:gd name="textAreaRight" fmla="*/ 1088640 w 11430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9443" h="21600">
                <a:moveTo>
                  <a:pt x="0" y="0"/>
                </a:moveTo>
                <a:lnTo>
                  <a:pt x="29443" y="0"/>
                </a:lnTo>
                <a:lnTo>
                  <a:pt x="29443" y="21600"/>
                </a:lnTo>
                <a:lnTo>
                  <a:pt x="0" y="21600"/>
                </a:lnTo>
                <a:close/>
              </a:path>
              <a:path fill="lightenLess" w="29443" h="21600">
                <a:moveTo>
                  <a:pt x="0" y="0"/>
                </a:moveTo>
                <a:lnTo>
                  <a:pt x="29443" y="0"/>
                </a:lnTo>
                <a:lnTo>
                  <a:pt x="28043" y="1400"/>
                </a:lnTo>
                <a:lnTo>
                  <a:pt x="1400" y="1400"/>
                </a:lnTo>
                <a:close/>
              </a:path>
              <a:path fill="darken" w="29443" h="21600">
                <a:moveTo>
                  <a:pt x="29443" y="0"/>
                </a:moveTo>
                <a:lnTo>
                  <a:pt x="29443" y="21600"/>
                </a:lnTo>
                <a:lnTo>
                  <a:pt x="28043" y="20200"/>
                </a:lnTo>
                <a:lnTo>
                  <a:pt x="28043" y="1400"/>
                </a:lnTo>
                <a:close/>
              </a:path>
              <a:path fill="darkenLess" w="29443" h="21600">
                <a:moveTo>
                  <a:pt x="29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3" y="20200"/>
                </a:lnTo>
                <a:close/>
              </a:path>
              <a:path fill="lighten" w="29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3" h="21600">
                <a:moveTo>
                  <a:pt x="7715" y="7493"/>
                </a:moveTo>
                <a:lnTo>
                  <a:pt x="11222" y="7493"/>
                </a:lnTo>
                <a:lnTo>
                  <a:pt x="11222" y="12828"/>
                </a:lnTo>
                <a:cubicBezTo>
                  <a:pt x="11222" y="13751"/>
                  <a:pt x="12023" y="14482"/>
                  <a:pt x="13059" y="14482"/>
                </a:cubicBezTo>
                <a:lnTo>
                  <a:pt x="14721" y="14482"/>
                </a:lnTo>
                <a:cubicBezTo>
                  <a:pt x="15757" y="14482"/>
                  <a:pt x="16558" y="13751"/>
                  <a:pt x="16558" y="12828"/>
                </a:cubicBezTo>
                <a:lnTo>
                  <a:pt x="16558" y="7493"/>
                </a:lnTo>
                <a:lnTo>
                  <a:pt x="14721" y="7493"/>
                </a:lnTo>
                <a:lnTo>
                  <a:pt x="18229" y="3985"/>
                </a:lnTo>
                <a:lnTo>
                  <a:pt x="21902" y="7493"/>
                </a:lnTo>
                <a:lnTo>
                  <a:pt x="20065" y="7493"/>
                </a:lnTo>
                <a:lnTo>
                  <a:pt x="20065" y="12828"/>
                </a:lnTo>
                <a:cubicBezTo>
                  <a:pt x="20065" y="15596"/>
                  <a:pt x="17489" y="18155"/>
                  <a:pt x="14721" y="18155"/>
                </a:cubicBezTo>
                <a:lnTo>
                  <a:pt x="13059" y="18155"/>
                </a:lnTo>
                <a:cubicBezTo>
                  <a:pt x="10291" y="18155"/>
                  <a:pt x="7715" y="15596"/>
                  <a:pt x="7715" y="12828"/>
                </a:cubicBez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76320" y="2926440"/>
            <a:ext cx="723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imes New Roman"/>
              </a:rPr>
              <a:t>What is a cold front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66ED-9E25-4CB9-8CDD-5E3F82A755F7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143000" y="1447920"/>
            <a:ext cx="7315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The leading edge of a warm air mass that forms as the warm air mass moves forward into a cold air mas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4607-225F-421D-8E9F-9735DEA0D266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>
            <a:hlinkClick r:id="rId2" action="ppaction://hlinksldjump"/>
          </p:cNvPr>
          <p:cNvSpPr/>
          <p:nvPr/>
        </p:nvSpPr>
        <p:spPr>
          <a:xfrm>
            <a:off x="838080" y="5410080"/>
            <a:ext cx="1143000" cy="838440"/>
          </a:xfrm>
          <a:custGeom>
            <a:avLst/>
            <a:gdLst>
              <a:gd name="textAreaLeft" fmla="*/ 54360 w 1143000"/>
              <a:gd name="textAreaRight" fmla="*/ 1088640 w 11430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9443" h="21600">
                <a:moveTo>
                  <a:pt x="0" y="0"/>
                </a:moveTo>
                <a:lnTo>
                  <a:pt x="29443" y="0"/>
                </a:lnTo>
                <a:lnTo>
                  <a:pt x="29443" y="21600"/>
                </a:lnTo>
                <a:lnTo>
                  <a:pt x="0" y="21600"/>
                </a:lnTo>
                <a:close/>
              </a:path>
              <a:path fill="lightenLess" w="29443" h="21600">
                <a:moveTo>
                  <a:pt x="0" y="0"/>
                </a:moveTo>
                <a:lnTo>
                  <a:pt x="29443" y="0"/>
                </a:lnTo>
                <a:lnTo>
                  <a:pt x="28043" y="1400"/>
                </a:lnTo>
                <a:lnTo>
                  <a:pt x="1400" y="1400"/>
                </a:lnTo>
                <a:close/>
              </a:path>
              <a:path fill="darken" w="29443" h="21600">
                <a:moveTo>
                  <a:pt x="29443" y="0"/>
                </a:moveTo>
                <a:lnTo>
                  <a:pt x="29443" y="21600"/>
                </a:lnTo>
                <a:lnTo>
                  <a:pt x="28043" y="20200"/>
                </a:lnTo>
                <a:lnTo>
                  <a:pt x="28043" y="1400"/>
                </a:lnTo>
                <a:close/>
              </a:path>
              <a:path fill="darkenLess" w="29443" h="21600">
                <a:moveTo>
                  <a:pt x="29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3" y="20200"/>
                </a:lnTo>
                <a:close/>
              </a:path>
              <a:path fill="lighten" w="29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3" h="21600">
                <a:moveTo>
                  <a:pt x="7715" y="7493"/>
                </a:moveTo>
                <a:lnTo>
                  <a:pt x="11222" y="7493"/>
                </a:lnTo>
                <a:lnTo>
                  <a:pt x="11222" y="12828"/>
                </a:lnTo>
                <a:cubicBezTo>
                  <a:pt x="11222" y="13751"/>
                  <a:pt x="12023" y="14482"/>
                  <a:pt x="13059" y="14482"/>
                </a:cubicBezTo>
                <a:lnTo>
                  <a:pt x="14721" y="14482"/>
                </a:lnTo>
                <a:cubicBezTo>
                  <a:pt x="15757" y="14482"/>
                  <a:pt x="16558" y="13751"/>
                  <a:pt x="16558" y="12828"/>
                </a:cubicBezTo>
                <a:lnTo>
                  <a:pt x="16558" y="7493"/>
                </a:lnTo>
                <a:lnTo>
                  <a:pt x="14721" y="7493"/>
                </a:lnTo>
                <a:lnTo>
                  <a:pt x="18229" y="3985"/>
                </a:lnTo>
                <a:lnTo>
                  <a:pt x="21902" y="7493"/>
                </a:lnTo>
                <a:lnTo>
                  <a:pt x="20065" y="7493"/>
                </a:lnTo>
                <a:lnTo>
                  <a:pt x="20065" y="12828"/>
                </a:lnTo>
                <a:cubicBezTo>
                  <a:pt x="20065" y="15596"/>
                  <a:pt x="17489" y="18155"/>
                  <a:pt x="14721" y="18155"/>
                </a:cubicBezTo>
                <a:lnTo>
                  <a:pt x="13059" y="18155"/>
                </a:lnTo>
                <a:cubicBezTo>
                  <a:pt x="10291" y="18155"/>
                  <a:pt x="7715" y="15596"/>
                  <a:pt x="7715" y="12828"/>
                </a:cubicBez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92360" y="2926440"/>
            <a:ext cx="7592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imes New Roman"/>
              </a:rPr>
              <a:t>What is a warm front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651A-D155-4CF3-B997-A2887E2E6571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838080" y="297180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It is a prediction of weather condition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855E-496C-45C3-BA20-C23BDD6F663B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>
            <a:hlinkClick r:id="rId2" action="ppaction://hlinksldjump"/>
          </p:cNvPr>
          <p:cNvSpPr/>
          <p:nvPr/>
        </p:nvSpPr>
        <p:spPr>
          <a:xfrm>
            <a:off x="838080" y="5410080"/>
            <a:ext cx="1143000" cy="838440"/>
          </a:xfrm>
          <a:custGeom>
            <a:avLst/>
            <a:gdLst>
              <a:gd name="textAreaLeft" fmla="*/ 54360 w 1143000"/>
              <a:gd name="textAreaRight" fmla="*/ 1088640 w 11430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9443" h="21600">
                <a:moveTo>
                  <a:pt x="0" y="0"/>
                </a:moveTo>
                <a:lnTo>
                  <a:pt x="29443" y="0"/>
                </a:lnTo>
                <a:lnTo>
                  <a:pt x="29443" y="21600"/>
                </a:lnTo>
                <a:lnTo>
                  <a:pt x="0" y="21600"/>
                </a:lnTo>
                <a:close/>
              </a:path>
              <a:path fill="lightenLess" w="29443" h="21600">
                <a:moveTo>
                  <a:pt x="0" y="0"/>
                </a:moveTo>
                <a:lnTo>
                  <a:pt x="29443" y="0"/>
                </a:lnTo>
                <a:lnTo>
                  <a:pt x="28043" y="1400"/>
                </a:lnTo>
                <a:lnTo>
                  <a:pt x="1400" y="1400"/>
                </a:lnTo>
                <a:close/>
              </a:path>
              <a:path fill="darken" w="29443" h="21600">
                <a:moveTo>
                  <a:pt x="29443" y="0"/>
                </a:moveTo>
                <a:lnTo>
                  <a:pt x="29443" y="21600"/>
                </a:lnTo>
                <a:lnTo>
                  <a:pt x="28043" y="20200"/>
                </a:lnTo>
                <a:lnTo>
                  <a:pt x="28043" y="1400"/>
                </a:lnTo>
                <a:close/>
              </a:path>
              <a:path fill="darkenLess" w="29443" h="21600">
                <a:moveTo>
                  <a:pt x="29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3" y="20200"/>
                </a:lnTo>
                <a:close/>
              </a:path>
              <a:path fill="lighten" w="29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3" h="21600">
                <a:moveTo>
                  <a:pt x="7715" y="7493"/>
                </a:moveTo>
                <a:lnTo>
                  <a:pt x="11222" y="7493"/>
                </a:lnTo>
                <a:lnTo>
                  <a:pt x="11222" y="12828"/>
                </a:lnTo>
                <a:cubicBezTo>
                  <a:pt x="11222" y="13751"/>
                  <a:pt x="12023" y="14482"/>
                  <a:pt x="13059" y="14482"/>
                </a:cubicBezTo>
                <a:lnTo>
                  <a:pt x="14721" y="14482"/>
                </a:lnTo>
                <a:cubicBezTo>
                  <a:pt x="15757" y="14482"/>
                  <a:pt x="16558" y="13751"/>
                  <a:pt x="16558" y="12828"/>
                </a:cubicBezTo>
                <a:lnTo>
                  <a:pt x="16558" y="7493"/>
                </a:lnTo>
                <a:lnTo>
                  <a:pt x="14721" y="7493"/>
                </a:lnTo>
                <a:lnTo>
                  <a:pt x="18229" y="3985"/>
                </a:lnTo>
                <a:lnTo>
                  <a:pt x="21902" y="7493"/>
                </a:lnTo>
                <a:lnTo>
                  <a:pt x="20065" y="7493"/>
                </a:lnTo>
                <a:lnTo>
                  <a:pt x="20065" y="12828"/>
                </a:lnTo>
                <a:cubicBezTo>
                  <a:pt x="20065" y="15596"/>
                  <a:pt x="17489" y="18155"/>
                  <a:pt x="14721" y="18155"/>
                </a:cubicBezTo>
                <a:lnTo>
                  <a:pt x="13059" y="18155"/>
                </a:lnTo>
                <a:cubicBezTo>
                  <a:pt x="10291" y="18155"/>
                  <a:pt x="7715" y="15596"/>
                  <a:pt x="7715" y="12828"/>
                </a:cubicBez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2469240"/>
            <a:ext cx="7696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imes New Roman"/>
              </a:rPr>
              <a:t>What is a weather forecast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6AA2-9F03-4993-8465-C590ADBC22FA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2819520"/>
            <a:ext cx="76201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It is solid precipitation that falls as balls or lumps of ic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990720"/>
            <a:ext cx="7924680" cy="5410080"/>
          </a:xfrm>
          <a:custGeom>
            <a:avLst/>
            <a:gdLst>
              <a:gd name="textAreaLeft" fmla="*/ 350640 w 7924680"/>
              <a:gd name="textAreaRight" fmla="*/ 7574040 w 7924680"/>
              <a:gd name="textAreaTop" fmla="*/ 350640 h 5410080"/>
              <a:gd name="textAreaBottom" fmla="*/ 5059440 h 5410080"/>
            </a:gdLst>
            <a:ahLst/>
            <a:rect l="textAreaLeft" t="textAreaTop" r="textAreaRight" b="textAreaBottom"/>
            <a:pathLst>
              <a:path w="31639" h="21600">
                <a:moveTo>
                  <a:pt x="0" y="0"/>
                </a:moveTo>
                <a:lnTo>
                  <a:pt x="31639" y="0"/>
                </a:lnTo>
                <a:lnTo>
                  <a:pt x="31639" y="21600"/>
                </a:lnTo>
                <a:lnTo>
                  <a:pt x="0" y="21600"/>
                </a:lnTo>
                <a:close/>
              </a:path>
              <a:path fill="lightenLess" w="31639" h="21600">
                <a:moveTo>
                  <a:pt x="0" y="0"/>
                </a:moveTo>
                <a:lnTo>
                  <a:pt x="31639" y="0"/>
                </a:lnTo>
                <a:lnTo>
                  <a:pt x="30239" y="1400"/>
                </a:lnTo>
                <a:lnTo>
                  <a:pt x="1400" y="1400"/>
                </a:lnTo>
                <a:close/>
              </a:path>
              <a:path fill="darken" w="31639" h="21600">
                <a:moveTo>
                  <a:pt x="31639" y="0"/>
                </a:moveTo>
                <a:lnTo>
                  <a:pt x="31639" y="21600"/>
                </a:lnTo>
                <a:lnTo>
                  <a:pt x="30239" y="20200"/>
                </a:lnTo>
                <a:lnTo>
                  <a:pt x="30239" y="1400"/>
                </a:lnTo>
                <a:close/>
              </a:path>
              <a:path fill="darkenLess" w="31639" h="21600">
                <a:moveTo>
                  <a:pt x="31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239" y="20200"/>
                </a:lnTo>
                <a:close/>
              </a:path>
              <a:path fill="lighten" w="31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nextslide"/>
          </p:cNvPr>
          <p:cNvSpPr/>
          <p:nvPr/>
        </p:nvSpPr>
        <p:spPr>
          <a:xfrm>
            <a:off x="533520" y="685800"/>
            <a:ext cx="8229600" cy="5791320"/>
          </a:xfrm>
          <a:custGeom>
            <a:avLst/>
            <a:gdLst>
              <a:gd name="textAreaLeft" fmla="*/ 375120 w 8229600"/>
              <a:gd name="textAreaRight" fmla="*/ 7854480 w 8229600"/>
              <a:gd name="textAreaTop" fmla="*/ 375120 h 5791320"/>
              <a:gd name="textAreaBottom" fmla="*/ 5416200 h 5791320"/>
            </a:gdLst>
            <a:ahLst/>
            <a:rect l="textAreaLeft" t="textAreaTop" r="textAreaRight" b="textAreaBottom"/>
            <a:pathLst>
              <a:path w="30694" h="21600">
                <a:moveTo>
                  <a:pt x="0" y="0"/>
                </a:moveTo>
                <a:lnTo>
                  <a:pt x="30694" y="0"/>
                </a:lnTo>
                <a:lnTo>
                  <a:pt x="30694" y="21600"/>
                </a:lnTo>
                <a:lnTo>
                  <a:pt x="0" y="21600"/>
                </a:lnTo>
                <a:close/>
              </a:path>
              <a:path fill="lightenLess" w="30694" h="21600">
                <a:moveTo>
                  <a:pt x="0" y="0"/>
                </a:moveTo>
                <a:lnTo>
                  <a:pt x="30694" y="0"/>
                </a:lnTo>
                <a:lnTo>
                  <a:pt x="29294" y="1400"/>
                </a:lnTo>
                <a:lnTo>
                  <a:pt x="1400" y="1400"/>
                </a:lnTo>
                <a:close/>
              </a:path>
              <a:path fill="darken" w="30694" h="21600">
                <a:moveTo>
                  <a:pt x="30694" y="0"/>
                </a:moveTo>
                <a:lnTo>
                  <a:pt x="30694" y="21600"/>
                </a:lnTo>
                <a:lnTo>
                  <a:pt x="29294" y="20200"/>
                </a:lnTo>
                <a:lnTo>
                  <a:pt x="29294" y="1400"/>
                </a:lnTo>
                <a:close/>
              </a:path>
              <a:path fill="darkenLess" w="30694" h="21600">
                <a:moveTo>
                  <a:pt x="306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94" y="20200"/>
                </a:lnTo>
                <a:close/>
              </a:path>
              <a:path fill="lighten" w="306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6D74-54C2-4313-8A20-C9A37463DFD0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24382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What is hail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>
            <a:hlinkClick r:id="rId2" action="ppaction://hlinksldjump"/>
          </p:cNvPr>
          <p:cNvSpPr/>
          <p:nvPr/>
        </p:nvSpPr>
        <p:spPr>
          <a:xfrm>
            <a:off x="838080" y="5410080"/>
            <a:ext cx="1143000" cy="838440"/>
          </a:xfrm>
          <a:custGeom>
            <a:avLst/>
            <a:gdLst>
              <a:gd name="textAreaLeft" fmla="*/ 54360 w 1143000"/>
              <a:gd name="textAreaRight" fmla="*/ 1088640 w 11430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9443" h="21600">
                <a:moveTo>
                  <a:pt x="0" y="0"/>
                </a:moveTo>
                <a:lnTo>
                  <a:pt x="29443" y="0"/>
                </a:lnTo>
                <a:lnTo>
                  <a:pt x="29443" y="21600"/>
                </a:lnTo>
                <a:lnTo>
                  <a:pt x="0" y="21600"/>
                </a:lnTo>
                <a:close/>
              </a:path>
              <a:path fill="lightenLess" w="29443" h="21600">
                <a:moveTo>
                  <a:pt x="0" y="0"/>
                </a:moveTo>
                <a:lnTo>
                  <a:pt x="29443" y="0"/>
                </a:lnTo>
                <a:lnTo>
                  <a:pt x="28043" y="1400"/>
                </a:lnTo>
                <a:lnTo>
                  <a:pt x="1400" y="1400"/>
                </a:lnTo>
                <a:close/>
              </a:path>
              <a:path fill="darken" w="29443" h="21600">
                <a:moveTo>
                  <a:pt x="29443" y="0"/>
                </a:moveTo>
                <a:lnTo>
                  <a:pt x="29443" y="21600"/>
                </a:lnTo>
                <a:lnTo>
                  <a:pt x="28043" y="20200"/>
                </a:lnTo>
                <a:lnTo>
                  <a:pt x="28043" y="1400"/>
                </a:lnTo>
                <a:close/>
              </a:path>
              <a:path fill="darkenLess" w="29443" h="21600">
                <a:moveTo>
                  <a:pt x="29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3" y="20200"/>
                </a:lnTo>
                <a:close/>
              </a:path>
              <a:path fill="lighten" w="29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3" h="21600">
                <a:moveTo>
                  <a:pt x="7715" y="7493"/>
                </a:moveTo>
                <a:lnTo>
                  <a:pt x="11222" y="7493"/>
                </a:lnTo>
                <a:lnTo>
                  <a:pt x="11222" y="12828"/>
                </a:lnTo>
                <a:cubicBezTo>
                  <a:pt x="11222" y="13751"/>
                  <a:pt x="12023" y="14482"/>
                  <a:pt x="13059" y="14482"/>
                </a:cubicBezTo>
                <a:lnTo>
                  <a:pt x="14721" y="14482"/>
                </a:lnTo>
                <a:cubicBezTo>
                  <a:pt x="15757" y="14482"/>
                  <a:pt x="16558" y="13751"/>
                  <a:pt x="16558" y="12828"/>
                </a:cubicBezTo>
                <a:lnTo>
                  <a:pt x="16558" y="7493"/>
                </a:lnTo>
                <a:lnTo>
                  <a:pt x="14721" y="7493"/>
                </a:lnTo>
                <a:lnTo>
                  <a:pt x="18229" y="3985"/>
                </a:lnTo>
                <a:lnTo>
                  <a:pt x="21902" y="7493"/>
                </a:lnTo>
                <a:lnTo>
                  <a:pt x="20065" y="7493"/>
                </a:lnTo>
                <a:lnTo>
                  <a:pt x="20065" y="12828"/>
                </a:lnTo>
                <a:cubicBezTo>
                  <a:pt x="20065" y="15596"/>
                  <a:pt x="17489" y="18155"/>
                  <a:pt x="14721" y="18155"/>
                </a:cubicBezTo>
                <a:lnTo>
                  <a:pt x="13059" y="18155"/>
                </a:lnTo>
                <a:cubicBezTo>
                  <a:pt x="10291" y="18155"/>
                  <a:pt x="7715" y="15596"/>
                  <a:pt x="7715" y="12828"/>
                </a:cubicBez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7488-6D30-46C5-BDB7-F940CDE1960F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FINAL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JEOPARD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95280" y="2286000"/>
            <a:ext cx="6629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74B8-CE08-4E34-BB1D-34BF70815AD3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371600" y="2362320"/>
            <a:ext cx="632448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tluck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542F-440E-4F01-8250-2898B15DDBFB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320" y="9907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The state of the atmosphere at a specific time and with respect on life and human activities.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nextslide"/>
          </p:cNvPr>
          <p:cNvSpPr/>
          <p:nvPr/>
        </p:nvSpPr>
        <p:spPr>
          <a:xfrm>
            <a:off x="533520" y="685800"/>
            <a:ext cx="8229600" cy="5867280"/>
          </a:xfrm>
          <a:custGeom>
            <a:avLst/>
            <a:gdLst>
              <a:gd name="textAreaLeft" fmla="*/ 380160 w 8229600"/>
              <a:gd name="textAreaRight" fmla="*/ 7849440 w 8229600"/>
              <a:gd name="textAreaTop" fmla="*/ 380160 h 5867280"/>
              <a:gd name="textAreaBottom" fmla="*/ 5487120 h 5867280"/>
            </a:gdLst>
            <a:ahLst/>
            <a:rect l="textAreaLeft" t="textAreaTop" r="textAreaRight" b="textAreaBottom"/>
            <a:pathLst>
              <a:path w="30296" h="21600">
                <a:moveTo>
                  <a:pt x="0" y="0"/>
                </a:moveTo>
                <a:lnTo>
                  <a:pt x="30296" y="0"/>
                </a:lnTo>
                <a:lnTo>
                  <a:pt x="30296" y="21600"/>
                </a:lnTo>
                <a:lnTo>
                  <a:pt x="0" y="21600"/>
                </a:lnTo>
                <a:close/>
              </a:path>
              <a:path fill="lightenLess" w="30296" h="21600">
                <a:moveTo>
                  <a:pt x="0" y="0"/>
                </a:moveTo>
                <a:lnTo>
                  <a:pt x="30296" y="0"/>
                </a:lnTo>
                <a:lnTo>
                  <a:pt x="28896" y="1400"/>
                </a:lnTo>
                <a:lnTo>
                  <a:pt x="1400" y="1400"/>
                </a:lnTo>
                <a:close/>
              </a:path>
              <a:path fill="darken" w="30296" h="21600">
                <a:moveTo>
                  <a:pt x="30296" y="0"/>
                </a:moveTo>
                <a:lnTo>
                  <a:pt x="30296" y="21600"/>
                </a:lnTo>
                <a:lnTo>
                  <a:pt x="28896" y="20200"/>
                </a:lnTo>
                <a:lnTo>
                  <a:pt x="28896" y="1400"/>
                </a:lnTo>
                <a:close/>
              </a:path>
              <a:path fill="darkenLess" w="30296" h="21600">
                <a:moveTo>
                  <a:pt x="302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96" y="20200"/>
                </a:lnTo>
                <a:close/>
              </a:path>
              <a:path fill="lighten" w="302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3EC7-0BA0-493C-A558-57C1851B28A3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What is weather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DC5E-CA1D-46C2-859E-D2EAFA1E38EA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D7104-B594-4428-9A42-46BD4B3A6E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52280" y="228600"/>
            <a:ext cx="12956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Weather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Instrument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Weather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erm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124080" y="304920"/>
            <a:ext cx="1371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Water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ycl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torm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loud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848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Potluck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1320" y="1295280"/>
            <a:ext cx="56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1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4320" y="24382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4320" y="35812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44320" y="47242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4320" y="58672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7" action="ppaction://hlinksldjump"/>
          </p:cNvPr>
          <p:cNvSpPr/>
          <p:nvPr/>
        </p:nvSpPr>
        <p:spPr>
          <a:xfrm>
            <a:off x="2068200" y="12924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9" action="ppaction://hlinksldjump"/>
          </p:cNvPr>
          <p:cNvSpPr/>
          <p:nvPr/>
        </p:nvSpPr>
        <p:spPr>
          <a:xfrm>
            <a:off x="2077920" y="24354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11" action="ppaction://hlinksldjump"/>
          </p:cNvPr>
          <p:cNvSpPr/>
          <p:nvPr/>
        </p:nvSpPr>
        <p:spPr>
          <a:xfrm>
            <a:off x="2068200" y="35784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13" action="ppaction://hlinksldjump"/>
          </p:cNvPr>
          <p:cNvSpPr/>
          <p:nvPr/>
        </p:nvSpPr>
        <p:spPr>
          <a:xfrm>
            <a:off x="2068200" y="47214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15" action="ppaction://hlinksldjump"/>
          </p:cNvPr>
          <p:cNvSpPr/>
          <p:nvPr/>
        </p:nvSpPr>
        <p:spPr>
          <a:xfrm>
            <a:off x="2068200" y="58644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17" action="ppaction://hlinksldjump"/>
          </p:cNvPr>
          <p:cNvSpPr/>
          <p:nvPr/>
        </p:nvSpPr>
        <p:spPr>
          <a:xfrm>
            <a:off x="3592440" y="127944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19" action="ppaction://hlinksldjump"/>
          </p:cNvPr>
          <p:cNvSpPr/>
          <p:nvPr/>
        </p:nvSpPr>
        <p:spPr>
          <a:xfrm>
            <a:off x="3592440" y="24382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21" action="ppaction://hlinksldjump"/>
          </p:cNvPr>
          <p:cNvSpPr/>
          <p:nvPr/>
        </p:nvSpPr>
        <p:spPr>
          <a:xfrm>
            <a:off x="3506760" y="35812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23" action="ppaction://hlinksldjump"/>
          </p:cNvPr>
          <p:cNvSpPr/>
          <p:nvPr/>
        </p:nvSpPr>
        <p:spPr>
          <a:xfrm>
            <a:off x="3592440" y="47214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24" action="ppaction://hlinksldjump"/>
          </p:cNvPr>
          <p:cNvSpPr/>
          <p:nvPr/>
        </p:nvSpPr>
        <p:spPr>
          <a:xfrm>
            <a:off x="3592440" y="58644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25" action="ppaction://hlinksldjump"/>
          </p:cNvPr>
          <p:cNvSpPr/>
          <p:nvPr/>
        </p:nvSpPr>
        <p:spPr>
          <a:xfrm>
            <a:off x="5106960" y="12924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26" action="ppaction://hlinksldjump"/>
          </p:cNvPr>
          <p:cNvSpPr/>
          <p:nvPr/>
        </p:nvSpPr>
        <p:spPr>
          <a:xfrm>
            <a:off x="5106960" y="24354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27" action="ppaction://hlinksldjump"/>
          </p:cNvPr>
          <p:cNvSpPr/>
          <p:nvPr/>
        </p:nvSpPr>
        <p:spPr>
          <a:xfrm>
            <a:off x="5116320" y="35784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28" action="ppaction://hlinksldjump"/>
          </p:cNvPr>
          <p:cNvSpPr/>
          <p:nvPr/>
        </p:nvSpPr>
        <p:spPr>
          <a:xfrm>
            <a:off x="5116320" y="47214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29" action="ppaction://hlinksldjump"/>
          </p:cNvPr>
          <p:cNvSpPr/>
          <p:nvPr/>
        </p:nvSpPr>
        <p:spPr>
          <a:xfrm>
            <a:off x="5116320" y="58644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30" action="ppaction://hlinksldjump"/>
          </p:cNvPr>
          <p:cNvSpPr/>
          <p:nvPr/>
        </p:nvSpPr>
        <p:spPr>
          <a:xfrm>
            <a:off x="6649920" y="12924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31" action="ppaction://hlinksldjump"/>
          </p:cNvPr>
          <p:cNvSpPr/>
          <p:nvPr/>
        </p:nvSpPr>
        <p:spPr>
          <a:xfrm>
            <a:off x="6640200" y="24354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32" action="ppaction://hlinksldjump"/>
          </p:cNvPr>
          <p:cNvSpPr/>
          <p:nvPr/>
        </p:nvSpPr>
        <p:spPr>
          <a:xfrm>
            <a:off x="6649920" y="35784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33" action="ppaction://hlinksldjump"/>
          </p:cNvPr>
          <p:cNvSpPr/>
          <p:nvPr/>
        </p:nvSpPr>
        <p:spPr>
          <a:xfrm>
            <a:off x="6649920" y="47214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34" action="ppaction://hlinksldjump"/>
          </p:cNvPr>
          <p:cNvSpPr/>
          <p:nvPr/>
        </p:nvSpPr>
        <p:spPr>
          <a:xfrm>
            <a:off x="6649920" y="58644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35" action="ppaction://hlinksldjump"/>
          </p:cNvPr>
          <p:cNvSpPr/>
          <p:nvPr/>
        </p:nvSpPr>
        <p:spPr>
          <a:xfrm>
            <a:off x="8173800" y="12924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36" action="ppaction://hlinksldjump"/>
          </p:cNvPr>
          <p:cNvSpPr/>
          <p:nvPr/>
        </p:nvSpPr>
        <p:spPr>
          <a:xfrm>
            <a:off x="8173800" y="24354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37" action="ppaction://hlinksldjump"/>
          </p:cNvPr>
          <p:cNvSpPr/>
          <p:nvPr/>
        </p:nvSpPr>
        <p:spPr>
          <a:xfrm>
            <a:off x="8164440" y="35784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38" action="ppaction://hlinksldjump"/>
          </p:cNvPr>
          <p:cNvSpPr/>
          <p:nvPr/>
        </p:nvSpPr>
        <p:spPr>
          <a:xfrm>
            <a:off x="8173800" y="47214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rId39" action="ppaction://hlinksldjump"/>
          </p:cNvPr>
          <p:cNvSpPr/>
          <p:nvPr/>
        </p:nvSpPr>
        <p:spPr>
          <a:xfrm>
            <a:off x="8173800" y="58644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40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371600" y="1858680"/>
            <a:ext cx="6467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It is used to measure the direction of the moving ai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00A8-414E-452B-A7F6-1AD14FDB4C5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 PCS</cp:lastModifiedBy>
  <dcterms:modified xsi:type="dcterms:W3CDTF">2006-11-10T14:40:27Z</dcterms:modified>
  <cp:revision>80</cp:revision>
  <dc:subject/>
  <dc:title>No Slide Title</dc:title>
</cp:coreProperties>
</file>